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BB04-CB43-42CD-8D25-37C0BC6654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D04F-6B00-446D-BE76-5FECC6107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46F4-6978-4B38-AA95-EA8D09CFBC5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BAAD54-00B4-4C61-A3E4-ABC449E7940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8B0F-64D5-4D75-9181-49BEF64B859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0136E9-43E2-4503-94D4-8BF53228250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A750-26F4-45BD-A14E-014CB3DABC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B9510C-E175-4B02-A7B4-57A44F40F38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8C2-4675-4FCF-B426-9348D545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909-C07A-4A09-9CC9-F78195DA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937-F12E-4D59-B4DB-B3C14E16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278-A0BA-4F9F-84BF-90546C16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55A3-7204-410B-B478-F6EFAC07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2C0F-45DE-4714-A647-602E378D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577E-B4D1-4430-9D68-8D765E78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C3E9-0884-464B-80A5-4D429712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1DF4-9281-47B3-ACBD-0C3E2E4F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6787-8466-462B-98D5-D9EE042C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B8C0-336D-41E0-81BE-AF691778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D26-0BDD-4F99-9765-978B759A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710A-68AF-42E1-83EF-CAE9820F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3D5A-E16F-4E16-82CD-FDE190AC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5B8C-5651-458D-A130-32A72B3B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2368-BD07-47B5-9675-EC7E37CD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DA23-CF6B-467B-B4B0-A92CDD06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3D2A-F397-4FE7-894E-60A3C613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B496-E147-48BC-B613-44B4AAE8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0E2B-9D6D-4BE1-A289-CC84B230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7BC7-0590-45AF-A4A3-861CF55B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3ED1-D068-40DE-8AF1-A26987A5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559-F787-4FDF-B611-26979E9D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66D9-2D45-46D0-9485-7E520A91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4382-1FEB-4311-855D-BD2EF986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FF1DD-E740-4FFB-A4A6-84016F52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3702A-D345-498B-8E94-1AFB4EFC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7AF2-5137-4EFD-B580-B5C4FCE1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AC49-815A-48EF-ACB1-D6D18DDD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911F-5152-42CE-926B-BB9D0FF6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17A35-3C50-4339-8701-B63722FC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45121-B540-43C0-8C4B-38DA4A28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3DB9-5D4B-4CE4-8173-64177796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E8D-38EE-47BF-9322-075C014E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C07EB-FB3F-4797-846D-489C04E7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AA10B-A217-4F2F-8671-1E2DBFEB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34442-51C4-4192-9245-5B3A1E53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E5F78-7B8D-44B4-8E85-B048693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24E6-D881-4B7B-BC95-2EADA657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1C23-F65E-43B9-891B-17BBC3E4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5148-13F0-4AE7-83CE-8C230AF2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D157-E574-4B0D-8F09-7571E445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A5C65-0CD2-4AD3-B2AD-EA62B503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E3D-41C8-4CBA-ABF0-980793C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EE9-E835-472C-8D67-F9DC7815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97F-F1DE-4862-9C4B-143751B0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061-3D86-4A5B-8205-637B870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911-8C5F-44DA-AAD1-7B346889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23A3-0183-4B2C-9012-44566B8C3B5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3386-865D-4293-8572-95414D36521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5A59-E8A2-4A7B-97A6-18A8E4725ED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E86E-D9ED-45F4-8D82-8CEA6932465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48.png"/><Relationship Id="rId6" Type="http://schemas.openxmlformats.org/officeDocument/2006/relationships/image" Target="../media/image38.png"/><Relationship Id="rId7" Type="http://schemas.openxmlformats.org/officeDocument/2006/relationships/image" Target="../media/image26.png"/><Relationship Id="rId8" Type="http://schemas.openxmlformats.org/officeDocument/2006/relationships/image" Target="../media/image38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52.png"/><Relationship Id="rId10" Type="http://schemas.openxmlformats.org/officeDocument/2006/relationships/image" Target="../media/image52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2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15960" y="695160"/>
            <a:ext cx="79120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1" descr=""/>
          <p:cNvPicPr/>
          <p:nvPr/>
        </p:nvPicPr>
        <p:blipFill>
          <a:blip r:embed="rId1"/>
          <a:srcRect l="0" t="60434" r="0" b="0"/>
          <a:stretch/>
        </p:blipFill>
        <p:spPr>
          <a:xfrm>
            <a:off x="73080" y="58680"/>
            <a:ext cx="7162920" cy="182268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"/>
          <p:cNvSpPr/>
          <p:nvPr/>
        </p:nvSpPr>
        <p:spPr>
          <a:xfrm>
            <a:off x="1258920" y="231840"/>
            <a:ext cx="1908000" cy="144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5724360" y="682560"/>
            <a:ext cx="944640" cy="798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3"/>
          <a:stretch/>
        </p:blipFill>
        <p:spPr>
          <a:xfrm>
            <a:off x="3562200" y="47520"/>
            <a:ext cx="3168720" cy="513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"/>
          <p:cNvPicPr/>
          <p:nvPr/>
        </p:nvPicPr>
        <p:blipFill>
          <a:blip r:embed="rId4"/>
          <a:stretch/>
        </p:blipFill>
        <p:spPr>
          <a:xfrm>
            <a:off x="5364000" y="3500280"/>
            <a:ext cx="1079640" cy="5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5"/>
          <a:stretch/>
        </p:blipFill>
        <p:spPr>
          <a:xfrm>
            <a:off x="1476360" y="4724280"/>
            <a:ext cx="7667640" cy="2133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6"/>
          <a:stretch/>
        </p:blipFill>
        <p:spPr>
          <a:xfrm>
            <a:off x="2554200" y="4924440"/>
            <a:ext cx="2016360" cy="133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7"/>
          <a:stretch/>
        </p:blipFill>
        <p:spPr>
          <a:xfrm>
            <a:off x="825480" y="1951200"/>
            <a:ext cx="7635960" cy="2433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"/>
          <p:cNvPicPr/>
          <p:nvPr/>
        </p:nvPicPr>
        <p:blipFill>
          <a:blip r:embed="rId8"/>
          <a:stretch/>
        </p:blipFill>
        <p:spPr>
          <a:xfrm>
            <a:off x="303120" y="2198520"/>
            <a:ext cx="7450200" cy="557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"/>
          <p:cNvPicPr/>
          <p:nvPr/>
        </p:nvPicPr>
        <p:blipFill>
          <a:blip r:embed="rId9"/>
          <a:stretch/>
        </p:blipFill>
        <p:spPr>
          <a:xfrm>
            <a:off x="6856560" y="3108240"/>
            <a:ext cx="1387440" cy="587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"/>
          <p:cNvPicPr/>
          <p:nvPr/>
        </p:nvPicPr>
        <p:blipFill>
          <a:blip r:embed="rId10"/>
          <a:stretch/>
        </p:blipFill>
        <p:spPr>
          <a:xfrm>
            <a:off x="5159520" y="4614840"/>
            <a:ext cx="3143160" cy="617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5" descr=""/>
          <p:cNvPicPr/>
          <p:nvPr/>
        </p:nvPicPr>
        <p:blipFill>
          <a:blip r:embed="rId11"/>
          <a:stretch/>
        </p:blipFill>
        <p:spPr>
          <a:xfrm>
            <a:off x="7388280" y="5641920"/>
            <a:ext cx="1073160" cy="654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6" descr=""/>
          <p:cNvPicPr/>
          <p:nvPr/>
        </p:nvPicPr>
        <p:blipFill>
          <a:blip r:embed="rId12"/>
          <a:stretch/>
        </p:blipFill>
        <p:spPr>
          <a:xfrm>
            <a:off x="7550280" y="5157720"/>
            <a:ext cx="1496880" cy="387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7" descr=""/>
          <p:cNvPicPr/>
          <p:nvPr/>
        </p:nvPicPr>
        <p:blipFill>
          <a:blip r:embed="rId13"/>
          <a:stretch/>
        </p:blipFill>
        <p:spPr>
          <a:xfrm>
            <a:off x="1835280" y="3108240"/>
            <a:ext cx="2379600" cy="1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"/>
          <p:cNvPicPr/>
          <p:nvPr/>
        </p:nvPicPr>
        <p:blipFill>
          <a:blip r:embed="rId1"/>
          <a:srcRect l="0" t="73620" r="0" b="0"/>
          <a:stretch/>
        </p:blipFill>
        <p:spPr>
          <a:xfrm>
            <a:off x="34920" y="88920"/>
            <a:ext cx="7130880" cy="181620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2" descr=""/>
          <p:cNvPicPr/>
          <p:nvPr/>
        </p:nvPicPr>
        <p:blipFill>
          <a:blip r:embed="rId2"/>
          <a:srcRect l="-932" t="68373" r="0" b="0"/>
          <a:stretch/>
        </p:blipFill>
        <p:spPr>
          <a:xfrm>
            <a:off x="611280" y="2039760"/>
            <a:ext cx="7704000" cy="2089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3"/>
          <a:stretch/>
        </p:blipFill>
        <p:spPr>
          <a:xfrm>
            <a:off x="5651640" y="60480"/>
            <a:ext cx="792000" cy="120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"/>
          <p:cNvPicPr/>
          <p:nvPr/>
        </p:nvPicPr>
        <p:blipFill>
          <a:blip r:embed="rId4"/>
          <a:stretch/>
        </p:blipFill>
        <p:spPr>
          <a:xfrm>
            <a:off x="7429680" y="1928880"/>
            <a:ext cx="658800" cy="12016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2" descr=""/>
          <p:cNvPicPr/>
          <p:nvPr/>
        </p:nvPicPr>
        <p:blipFill>
          <a:blip r:embed="rId5"/>
          <a:srcRect l="-2407" t="63319" r="0" b="0"/>
          <a:stretch/>
        </p:blipFill>
        <p:spPr>
          <a:xfrm>
            <a:off x="1208160" y="4649760"/>
            <a:ext cx="7823160" cy="201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6"/>
          <a:stretch/>
        </p:blipFill>
        <p:spPr>
          <a:xfrm>
            <a:off x="5221440" y="4608360"/>
            <a:ext cx="3887640" cy="48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"/>
          <p:cNvPicPr/>
          <p:nvPr/>
        </p:nvPicPr>
        <p:blipFill>
          <a:blip r:embed="rId7"/>
          <a:stretch/>
        </p:blipFill>
        <p:spPr>
          <a:xfrm>
            <a:off x="1212840" y="5367240"/>
            <a:ext cx="2144880" cy="336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8"/>
          <a:stretch/>
        </p:blipFill>
        <p:spPr>
          <a:xfrm>
            <a:off x="7364520" y="5327640"/>
            <a:ext cx="1439640" cy="311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9"/>
          <a:stretch/>
        </p:blipFill>
        <p:spPr>
          <a:xfrm>
            <a:off x="2451240" y="4844880"/>
            <a:ext cx="157140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Рисунок 1" descr=""/>
          <p:cNvPicPr/>
          <p:nvPr/>
        </p:nvPicPr>
        <p:blipFill>
          <a:blip r:embed="rId1"/>
          <a:srcRect l="-2672" t="62895" r="0" b="0"/>
          <a:stretch/>
        </p:blipFill>
        <p:spPr>
          <a:xfrm>
            <a:off x="-108000" y="90360"/>
            <a:ext cx="7596360" cy="202104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2" descr=""/>
          <p:cNvPicPr/>
          <p:nvPr/>
        </p:nvPicPr>
        <p:blipFill>
          <a:blip r:embed="rId2"/>
          <a:srcRect l="-3742" t="65908" r="0" b="0"/>
          <a:stretch/>
        </p:blipFill>
        <p:spPr>
          <a:xfrm>
            <a:off x="755640" y="2276640"/>
            <a:ext cx="7561440" cy="21603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3" descr=""/>
          <p:cNvPicPr/>
          <p:nvPr/>
        </p:nvPicPr>
        <p:blipFill>
          <a:blip r:embed="rId3"/>
          <a:srcRect l="-1763" t="62861" r="0" b="0"/>
          <a:stretch/>
        </p:blipFill>
        <p:spPr>
          <a:xfrm>
            <a:off x="2062080" y="4581360"/>
            <a:ext cx="7081920" cy="2276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4"/>
          <a:stretch/>
        </p:blipFill>
        <p:spPr>
          <a:xfrm>
            <a:off x="6081840" y="1628640"/>
            <a:ext cx="1514520" cy="40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5"/>
          <a:stretch/>
        </p:blipFill>
        <p:spPr>
          <a:xfrm>
            <a:off x="6659640" y="2724120"/>
            <a:ext cx="1444680" cy="817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6"/>
          <a:stretch/>
        </p:blipFill>
        <p:spPr>
          <a:xfrm>
            <a:off x="7201080" y="5218200"/>
            <a:ext cx="1942920" cy="527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7"/>
          <a:stretch/>
        </p:blipFill>
        <p:spPr>
          <a:xfrm>
            <a:off x="2627280" y="6381720"/>
            <a:ext cx="1444680" cy="311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8"/>
          <a:stretch/>
        </p:blipFill>
        <p:spPr>
          <a:xfrm>
            <a:off x="5689440" y="4568760"/>
            <a:ext cx="3384720" cy="57636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4"/>
          <p:cNvSpPr/>
          <p:nvPr/>
        </p:nvSpPr>
        <p:spPr>
          <a:xfrm>
            <a:off x="1147680" y="331920"/>
            <a:ext cx="1479600" cy="21744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9"/>
          <a:stretch/>
        </p:blipFill>
        <p:spPr>
          <a:xfrm>
            <a:off x="3116160" y="4869000"/>
            <a:ext cx="1500120" cy="231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10"/>
          <a:stretch/>
        </p:blipFill>
        <p:spPr>
          <a:xfrm>
            <a:off x="1941480" y="2492280"/>
            <a:ext cx="1500120" cy="231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"/>
          <p:cNvPicPr/>
          <p:nvPr/>
        </p:nvPicPr>
        <p:blipFill>
          <a:blip r:embed="rId11"/>
          <a:stretch/>
        </p:blipFill>
        <p:spPr>
          <a:xfrm>
            <a:off x="5937120" y="814320"/>
            <a:ext cx="144468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2" descr=""/>
          <p:cNvPicPr/>
          <p:nvPr/>
        </p:nvPicPr>
        <p:blipFill>
          <a:blip r:embed="rId1"/>
          <a:srcRect l="0" t="69423" r="0" b="0"/>
          <a:stretch/>
        </p:blipFill>
        <p:spPr>
          <a:xfrm>
            <a:off x="285840" y="264960"/>
            <a:ext cx="7786440" cy="2521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3" descr=""/>
          <p:cNvPicPr/>
          <p:nvPr/>
        </p:nvPicPr>
        <p:blipFill>
          <a:blip r:embed="rId2"/>
          <a:srcRect l="-1757" t="65454" r="0" b="0"/>
          <a:stretch/>
        </p:blipFill>
        <p:spPr>
          <a:xfrm>
            <a:off x="900000" y="3571920"/>
            <a:ext cx="7572600" cy="2450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2286000" y="4143240"/>
            <a:ext cx="1928880" cy="147600"/>
          </a:xfrm>
          <a:prstGeom prst="rect">
            <a:avLst/>
          </a:prstGeom>
          <a:ln w="0">
            <a:noFill/>
          </a:ln>
        </p:spPr>
      </p:pic>
      <p:sp>
        <p:nvSpPr>
          <p:cNvPr id="317" name="Овал 4"/>
          <p:cNvSpPr/>
          <p:nvPr/>
        </p:nvSpPr>
        <p:spPr>
          <a:xfrm>
            <a:off x="6948360" y="4076640"/>
            <a:ext cx="1366920" cy="144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4"/>
          <a:stretch/>
        </p:blipFill>
        <p:spPr>
          <a:xfrm>
            <a:off x="6300720" y="428760"/>
            <a:ext cx="1073160" cy="1295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"/>
          <p:cNvPicPr/>
          <p:nvPr/>
        </p:nvPicPr>
        <p:blipFill>
          <a:blip r:embed="rId5"/>
          <a:stretch/>
        </p:blipFill>
        <p:spPr>
          <a:xfrm>
            <a:off x="4716360" y="3571920"/>
            <a:ext cx="237168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08000" y="3357720"/>
            <a:ext cx="8785080" cy="25923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9360" y="260280"/>
            <a:ext cx="8461440" cy="2376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/>
          <p:cNvPicPr/>
          <p:nvPr/>
        </p:nvPicPr>
        <p:blipFill>
          <a:blip r:embed="rId3"/>
          <a:stretch/>
        </p:blipFill>
        <p:spPr>
          <a:xfrm>
            <a:off x="6659640" y="260280"/>
            <a:ext cx="10555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62000" y="836640"/>
          <a:ext cx="8802720" cy="2987640"/>
        </p:xfrm>
        <a:graphic>
          <a:graphicData uri="http://schemas.openxmlformats.org/drawingml/2006/table">
            <a:tbl>
              <a:tblPr/>
              <a:tblGrid>
                <a:gridCol w="6110280"/>
                <a:gridCol w="1382760"/>
                <a:gridCol w="13096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мер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ек мозг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олезнь или состояние, непосредственно  приведшее к смерти)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93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_</a:t>
                      </a:r>
                      <a:r>
                        <a:rPr b="1" lang="ru-RU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Гипертоническая болезнь сердца с сердечной недостаточ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атологическое состояние, которое привело к возникновению вышеуказанной причины)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_</a:t>
                      </a:r>
                      <a:r>
                        <a:rPr b="1" lang="ru-RU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Атеросклероз церебральных артерий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_______________________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  причина смерти  указывается  последней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6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нешняя причина при травмах и  отравления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4" name="Прямоугольник 1"/>
          <p:cNvSpPr/>
          <p:nvPr/>
        </p:nvSpPr>
        <p:spPr>
          <a:xfrm>
            <a:off x="250920" y="69840"/>
            <a:ext cx="8713800" cy="580680"/>
          </a:xfrm>
          <a:prstGeom prst="rect">
            <a:avLst/>
          </a:prstGeom>
          <a:solidFill>
            <a:srgbClr val="dce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ный выбор первоначальной причины смерти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8"/>
          <p:cNvSpPr/>
          <p:nvPr/>
        </p:nvSpPr>
        <p:spPr>
          <a:xfrm>
            <a:off x="237960" y="4149720"/>
            <a:ext cx="8726760" cy="2446560"/>
          </a:xfrm>
          <a:prstGeom prst="rect">
            <a:avLst/>
          </a:prstGeom>
          <a:solidFill>
            <a:srgbClr val="f9b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формы цереброваскулярных болезней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67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могут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ться первоначальной причиной смерти (только в случаях присоединения тяжелых осложнений как, например, пневмонии). Такая логическая последовательность должна быть обязательно указана в медицинском свидетельстве о смер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ись хронической формы цереброваскулярных болезней одной строкой без указания логической последов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качестве «основного» состояния используют гипертензивную болезнь с поражением сердца с сердеч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стью – код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11.0.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теросклероз церебральных артерий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67.2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ен быть указан во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ическая последовательность не указ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403200" y="820800"/>
          <a:ext cx="8424720" cy="3184560"/>
        </p:xfrm>
        <a:graphic>
          <a:graphicData uri="http://schemas.openxmlformats.org/drawingml/2006/table">
            <a:tbl>
              <a:tblPr/>
              <a:tblGrid>
                <a:gridCol w="6029280"/>
                <a:gridCol w="1197000"/>
                <a:gridCol w="119844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мер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</a:t>
                      </a: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Застойная сердечная недостаточность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олезнь или состояние, непосредственно  приведшее к смерти)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I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</a:t>
                      </a:r>
                      <a:r>
                        <a:rPr b="1" lang="ru-RU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енесенный в прошлом инфаркт миокар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атологическое состояние, которое привело к возникновению вышеуказанной причины)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I2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  причина смерти  указывается  последней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нешняя причина при травмах и  отравления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7" name="Прямоугольник 1"/>
          <p:cNvSpPr/>
          <p:nvPr/>
        </p:nvSpPr>
        <p:spPr>
          <a:xfrm>
            <a:off x="403200" y="15840"/>
            <a:ext cx="8352000" cy="580680"/>
          </a:xfrm>
          <a:prstGeom prst="rect">
            <a:avLst/>
          </a:prstGeom>
          <a:solidFill>
            <a:srgbClr val="dce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ный выбор первоначальной причины смерти, приблизительного периода времени между началом патологического процесса и смер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"/>
          <p:cNvSpPr/>
          <p:nvPr/>
        </p:nvSpPr>
        <p:spPr>
          <a:xfrm>
            <a:off x="214200" y="4148280"/>
            <a:ext cx="8791560" cy="2527560"/>
          </a:xfrm>
          <a:prstGeom prst="rect">
            <a:avLst/>
          </a:prstGeom>
          <a:solidFill>
            <a:srgbClr val="ffc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.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спользуется в статистике смертности, ни в качестве первоначальной, ни в качестве непосредственной причины смер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ервоначальной причины смерт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меняет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анное состояние обозначает инфаркт миокарда, перенесенный в прошлом и диагностированный по ЭКГ, в настоящее время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 диагнозов других заболеваний, первоначальной причиной смерти следует считать постинфарктный кардиосклероз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рректно указан приблизительный период времен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началом патологического процесса и смер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2"/>
          <p:cNvSpPr/>
          <p:nvPr/>
        </p:nvSpPr>
        <p:spPr>
          <a:xfrm>
            <a:off x="6588000" y="1214280"/>
            <a:ext cx="865440" cy="129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6"/>
          <p:cNvSpPr/>
          <p:nvPr/>
        </p:nvSpPr>
        <p:spPr>
          <a:xfrm>
            <a:off x="7885080" y="1214280"/>
            <a:ext cx="792360" cy="1224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447840" y="836640"/>
          <a:ext cx="8281800" cy="3252600"/>
        </p:xfrm>
        <a:graphic>
          <a:graphicData uri="http://schemas.openxmlformats.org/drawingml/2006/table">
            <a:tbl>
              <a:tblPr/>
              <a:tblGrid>
                <a:gridCol w="5925960"/>
                <a:gridCol w="1177920"/>
                <a:gridCol w="117792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мер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ковая интоксикац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олезнь или состояние, непосредственно  приведшее к смерти)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я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6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к предстательной желез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атологическое состояние, которое привело к возникновению вышеуказанной причины)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61.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тастазы в кости                           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                         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  причина смерти  указывается  последней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нешняя причина при травмах и  отравления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2" name="Прямоугольник 1"/>
          <p:cNvSpPr/>
          <p:nvPr/>
        </p:nvSpPr>
        <p:spPr>
          <a:xfrm>
            <a:off x="706320" y="220680"/>
            <a:ext cx="7764480" cy="337320"/>
          </a:xfrm>
          <a:prstGeom prst="rect">
            <a:avLst/>
          </a:prstGeom>
          <a:solidFill>
            <a:srgbClr val="dce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рректно распределены причины смер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93840" y="4562640"/>
          <a:ext cx="8372160" cy="2106360"/>
        </p:xfrm>
        <a:graphic>
          <a:graphicData uri="http://schemas.openxmlformats.org/drawingml/2006/table">
            <a:tbl>
              <a:tblPr/>
              <a:tblGrid>
                <a:gridCol w="5925960"/>
                <a:gridCol w="1177920"/>
                <a:gridCol w="1268280"/>
              </a:tblGrid>
              <a:tr h="48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ковая интоксикац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олезнь или состояние, непосредственно  приведшее к смерти)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я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6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тастазы в кост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атологическое состояние, которое привело к возникновению вышеуказанной причины)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к предстательной железы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                         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  причина смерти  указывается  последней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61.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нешняя причина при травмах и  отравления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4" name="Овал 3"/>
          <p:cNvSpPr/>
          <p:nvPr/>
        </p:nvSpPr>
        <p:spPr>
          <a:xfrm>
            <a:off x="393840" y="1844640"/>
            <a:ext cx="367344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Овал 7"/>
          <p:cNvSpPr/>
          <p:nvPr/>
        </p:nvSpPr>
        <p:spPr>
          <a:xfrm>
            <a:off x="393840" y="2349360"/>
            <a:ext cx="37908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6320" y="4149360"/>
            <a:ext cx="77644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: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309600" y="260280"/>
            <a:ext cx="8640720" cy="69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19 раздела «Причины смерти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го свидетельства о смерти должен быть заполнен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первичной медицинской документации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смертного эпикриза», в заключительной части которого должен быть четко отражен заключительный диагноз: основной клинический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атологоанатомический диагноз с осложнениями, фоновые, конкурирующие и сопутствующие заболе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ь причин смерти производится в строгом соответствии с установленными требованиями (письмо Минздравсоцразвития РФ от 19.01.09 г. №14-6/10/2-17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ю подлежат все пункты Медицинского свидетель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ь причины смерти производится в  обратной  последовательности  к основному  заболев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выбирается 1–2 осложнения, из которых составляют 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ую последователь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ервоначальной причины смерти по МКБ-10 записывается в графе «Код по МКБ-10» напроти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нной первоначальной причины смерти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ив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других причин смерти записываются в той же графе, напротив каждой строк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одчеркива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II пункта 19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прочие причины смерти - это те прочие важные заболевания, состояния (фоновые, конкурирующие и сопутствующие), которые не были связаны с первоначальной причиной смерти, но способствовали наступлению смерти. При этом производится отбор только тех состояний, которые оказали свое влияние на данную смерть (утяжелили основное заболевание и ускорили смерть). В данной части также указывают факт употребления алкоголя, наркотических средств, психотропных и других токсических веществ, содержание их в крови, а также произведенные операции или другие медицинские вмешательства (название, дата), которые, по мнению врача, имели отношение к смерти. Количество записываемых состояний не ограниче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ло выдано Медицинское свидетельство с пометкой «окончательное», но в дальнейшем выявилась ошибка в причине смерти или получены результаты лабораторных исследований,  следует заполнить новое Медицинское свидетельство «взамен окончательного»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даче Медицинского свидетельства «взамен предварительного» или  «взамен окончательного» ставится номер и указывается дата выдачи предыдущего Медицинского свидетель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случаях, когда диагноз уточнить невозможно, и причина смерти сомнительна или неизвестна, необходимо проведение патологоанатомического вскры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оводитель медицинской организации обеспечивает контроль достоверности выдаваемых Медицинских свидетельств, своевременности их заполн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1"/>
          <p:cNvSpPr/>
          <p:nvPr/>
        </p:nvSpPr>
        <p:spPr>
          <a:xfrm>
            <a:off x="1116000" y="1268280"/>
            <a:ext cx="70563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5651640" y="5516640"/>
            <a:ext cx="324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ипова Наталья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722) 31-77-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c-stat@zdrav31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8868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шибок з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ев 2019 года при заполнении медицинских свидетельств о смерти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Диаграмма 5" descr=""/>
          <p:cNvPicPr/>
          <p:nvPr/>
        </p:nvPicPr>
        <p:blipFill>
          <a:blip r:embed="rId1"/>
          <a:stretch/>
        </p:blipFill>
        <p:spPr>
          <a:xfrm>
            <a:off x="-23760" y="641520"/>
            <a:ext cx="3414600" cy="254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Диаграмма 10"/>
          <p:cNvGraphicFramePr/>
          <p:nvPr/>
        </p:nvGraphicFramePr>
        <p:xfrm>
          <a:off x="3081240" y="641520"/>
          <a:ext cx="6005520" cy="284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Диаграмма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81240" y="641520"/>
                    <a:ext cx="600552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Диаграмма 6" descr=""/>
          <p:cNvPicPr/>
          <p:nvPr/>
        </p:nvPicPr>
        <p:blipFill>
          <a:blip r:embed="rId4"/>
          <a:stretch/>
        </p:blipFill>
        <p:spPr>
          <a:xfrm>
            <a:off x="-431640" y="3457440"/>
            <a:ext cx="99504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ошибки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рректно распределены причины смерти по строкам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мечена в программе первоначальная причина смерти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рректно заполнен пункт «на основании» чего выдано свидетельство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рректно указаны серия и номер свидетельства (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 2018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рректно заполнен п. 15 (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ерть произошла от: ….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рректно указаны временные периоды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диагноза коду МКБ-10.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76% не заполнен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а 19, включающи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причины смерт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 прочие важные заболевания, состояния (фоновые, конкурирующие и сопутствующ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которы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были связа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воначальной причиной смерти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 способствовал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лению смерти. При этом производится отбор только тех состояний, которые оказали свое влияние на данную смерть (утяжелили основное заболевание и ускорили смерть). Не  указаны оперативные вмешательства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Диаграмма 3" descr=""/>
          <p:cNvPicPr/>
          <p:nvPr/>
        </p:nvPicPr>
        <p:blipFill>
          <a:blip r:embed="rId1"/>
          <a:stretch/>
        </p:blipFill>
        <p:spPr>
          <a:xfrm>
            <a:off x="128520" y="138240"/>
            <a:ext cx="86709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8501040" cy="1285920"/>
          </a:xfrm>
          <a:prstGeom prst="rect">
            <a:avLst/>
          </a:prstGeom>
          <a:ln w="0">
            <a:noFill/>
          </a:ln>
        </p:spPr>
      </p:pic>
      <p:sp>
        <p:nvSpPr>
          <p:cNvPr id="230" name="Овал 2"/>
          <p:cNvSpPr/>
          <p:nvPr/>
        </p:nvSpPr>
        <p:spPr>
          <a:xfrm>
            <a:off x="2143080" y="428760"/>
            <a:ext cx="500040" cy="500040"/>
          </a:xfrm>
          <a:prstGeom prst="ellipse">
            <a:avLst/>
          </a:prstGeom>
          <a:noFill/>
          <a:ln w="38160">
            <a:solidFill>
              <a:srgbClr val="c32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3"/>
          <p:cNvSpPr/>
          <p:nvPr/>
        </p:nvSpPr>
        <p:spPr>
          <a:xfrm>
            <a:off x="4071960" y="571680"/>
            <a:ext cx="1357200" cy="214200"/>
          </a:xfrm>
          <a:prstGeom prst="roundRect">
            <a:avLst>
              <a:gd name="adj" fmla="val 16667"/>
            </a:avLst>
          </a:prstGeom>
          <a:solidFill>
            <a:srgbClr val="b4dcf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2"/>
          <a:srcRect l="-1333" t="29822" r="0" b="0"/>
          <a:stretch/>
        </p:blipFill>
        <p:spPr>
          <a:xfrm>
            <a:off x="285840" y="1500120"/>
            <a:ext cx="8591400" cy="50990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1571760" y="4357800"/>
            <a:ext cx="1850760" cy="21564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6"/>
          <p:cNvSpPr/>
          <p:nvPr/>
        </p:nvSpPr>
        <p:spPr>
          <a:xfrm flipV="1">
            <a:off x="7643880" y="4714920"/>
            <a:ext cx="360360" cy="100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Прямая со стрелкой 8"/>
          <p:cNvCxnSpPr>
            <a:stCxn id="230" idx="4"/>
          </p:cNvCxnSpPr>
          <p:nvPr/>
        </p:nvCxnSpPr>
        <p:spPr>
          <a:xfrm>
            <a:off x="2391120" y="928440"/>
            <a:ext cx="35640" cy="1572120"/>
          </a:xfrm>
          <a:prstGeom prst="straightConnector1">
            <a:avLst/>
          </a:prstGeom>
          <a:ln w="38160">
            <a:solidFill>
              <a:srgbClr val="c3260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2" descr=""/>
          <p:cNvPicPr/>
          <p:nvPr/>
        </p:nvPicPr>
        <p:blipFill>
          <a:blip r:embed="rId1"/>
          <a:srcRect l="-802" t="44019" r="0" b="0"/>
          <a:stretch/>
        </p:blipFill>
        <p:spPr>
          <a:xfrm>
            <a:off x="108000" y="0"/>
            <a:ext cx="7559640" cy="28526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"/>
          <p:cNvPicPr/>
          <p:nvPr/>
        </p:nvPicPr>
        <p:blipFill>
          <a:blip r:embed="rId2"/>
          <a:srcRect l="0" t="44798" r="0" b="0"/>
          <a:stretch/>
        </p:blipFill>
        <p:spPr>
          <a:xfrm>
            <a:off x="1187280" y="3213000"/>
            <a:ext cx="7777440" cy="345600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5"/>
          <p:cNvSpPr/>
          <p:nvPr/>
        </p:nvSpPr>
        <p:spPr>
          <a:xfrm>
            <a:off x="0" y="260280"/>
            <a:ext cx="394020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6"/>
          <p:cNvSpPr/>
          <p:nvPr/>
        </p:nvSpPr>
        <p:spPr>
          <a:xfrm>
            <a:off x="1311120" y="1225440"/>
            <a:ext cx="2108520" cy="1573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7"/>
          <p:cNvSpPr/>
          <p:nvPr/>
        </p:nvSpPr>
        <p:spPr>
          <a:xfrm>
            <a:off x="2260440" y="4749840"/>
            <a:ext cx="1679760" cy="2016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8"/>
          <p:cNvSpPr/>
          <p:nvPr/>
        </p:nvSpPr>
        <p:spPr>
          <a:xfrm>
            <a:off x="1116000" y="3716280"/>
            <a:ext cx="388764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2" descr=""/>
          <p:cNvPicPr/>
          <p:nvPr/>
        </p:nvPicPr>
        <p:blipFill>
          <a:blip r:embed="rId1"/>
          <a:srcRect l="667" t="42974" r="0" b="0"/>
          <a:stretch/>
        </p:blipFill>
        <p:spPr>
          <a:xfrm>
            <a:off x="108000" y="0"/>
            <a:ext cx="8042400" cy="27813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4"/>
          <p:cNvSpPr/>
          <p:nvPr/>
        </p:nvSpPr>
        <p:spPr>
          <a:xfrm>
            <a:off x="1230480" y="1081080"/>
            <a:ext cx="2232000" cy="2113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2" descr=""/>
          <p:cNvPicPr/>
          <p:nvPr/>
        </p:nvPicPr>
        <p:blipFill>
          <a:blip r:embed="rId2"/>
          <a:srcRect l="-12" t="41828" r="17" b="1900"/>
          <a:stretch/>
        </p:blipFill>
        <p:spPr>
          <a:xfrm>
            <a:off x="214200" y="3071880"/>
            <a:ext cx="7753320" cy="3056040"/>
          </a:xfrm>
          <a:prstGeom prst="rect">
            <a:avLst/>
          </a:prstGeom>
          <a:ln w="0">
            <a:noFill/>
          </a:ln>
        </p:spPr>
      </p:pic>
      <p:sp>
        <p:nvSpPr>
          <p:cNvPr id="245" name="Овал 5"/>
          <p:cNvSpPr/>
          <p:nvPr/>
        </p:nvSpPr>
        <p:spPr>
          <a:xfrm>
            <a:off x="0" y="3429000"/>
            <a:ext cx="6384960" cy="80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6"/>
          <p:cNvSpPr/>
          <p:nvPr/>
        </p:nvSpPr>
        <p:spPr>
          <a:xfrm flipH="1">
            <a:off x="6428520" y="4929120"/>
            <a:ext cx="838440" cy="728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4"/>
          <p:cNvSpPr/>
          <p:nvPr/>
        </p:nvSpPr>
        <p:spPr>
          <a:xfrm>
            <a:off x="1395360" y="0"/>
            <a:ext cx="5735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писан танатоген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1"/>
          <a:stretch/>
        </p:blipFill>
        <p:spPr>
          <a:xfrm>
            <a:off x="142920" y="536400"/>
            <a:ext cx="6805440" cy="1968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"/>
          <p:cNvPicPr/>
          <p:nvPr/>
        </p:nvPicPr>
        <p:blipFill>
          <a:blip r:embed="rId2"/>
          <a:stretch/>
        </p:blipFill>
        <p:spPr>
          <a:xfrm>
            <a:off x="5338800" y="606600"/>
            <a:ext cx="1033560" cy="12016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" descr=""/>
          <p:cNvPicPr/>
          <p:nvPr/>
        </p:nvPicPr>
        <p:blipFill>
          <a:blip r:embed="rId3"/>
          <a:srcRect l="0" t="71376" r="0" b="0"/>
          <a:stretch/>
        </p:blipFill>
        <p:spPr>
          <a:xfrm>
            <a:off x="1143000" y="2643120"/>
            <a:ext cx="6951600" cy="17938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" descr=""/>
          <p:cNvPicPr/>
          <p:nvPr/>
        </p:nvPicPr>
        <p:blipFill>
          <a:blip r:embed="rId4"/>
          <a:srcRect l="-2808" t="64615" r="0" b="0"/>
          <a:stretch/>
        </p:blipFill>
        <p:spPr>
          <a:xfrm>
            <a:off x="2340000" y="4684680"/>
            <a:ext cx="6694560" cy="210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5"/>
          <a:stretch/>
        </p:blipFill>
        <p:spPr>
          <a:xfrm>
            <a:off x="6443640" y="2708280"/>
            <a:ext cx="1728720" cy="455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6"/>
          <a:stretch/>
        </p:blipFill>
        <p:spPr>
          <a:xfrm>
            <a:off x="7715160" y="5153040"/>
            <a:ext cx="1319400" cy="520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7"/>
          <a:stretch/>
        </p:blipFill>
        <p:spPr>
          <a:xfrm>
            <a:off x="3419640" y="4930920"/>
            <a:ext cx="1514160" cy="209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8"/>
          <a:stretch/>
        </p:blipFill>
        <p:spPr>
          <a:xfrm>
            <a:off x="5611680" y="4584600"/>
            <a:ext cx="32068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"/>
          <p:cNvPicPr/>
          <p:nvPr/>
        </p:nvPicPr>
        <p:blipFill>
          <a:blip r:embed="rId1"/>
          <a:srcRect l="-1120" t="61165" r="0" b="0"/>
          <a:stretch/>
        </p:blipFill>
        <p:spPr>
          <a:xfrm>
            <a:off x="-108000" y="431640"/>
            <a:ext cx="7559640" cy="19717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"/>
          <p:cNvPicPr/>
          <p:nvPr/>
        </p:nvPicPr>
        <p:blipFill>
          <a:blip r:embed="rId2"/>
          <a:srcRect l="-4969" t="64619" r="0" b="0"/>
          <a:stretch/>
        </p:blipFill>
        <p:spPr>
          <a:xfrm>
            <a:off x="1158840" y="2556000"/>
            <a:ext cx="7985160" cy="18190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>
            <a:off x="2143080" y="5143680"/>
            <a:ext cx="1893960" cy="10764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3"/>
          <a:stretch/>
        </p:blipFill>
        <p:spPr>
          <a:xfrm>
            <a:off x="5757840" y="868320"/>
            <a:ext cx="1728720" cy="446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4"/>
          <a:stretch/>
        </p:blipFill>
        <p:spPr>
          <a:xfrm>
            <a:off x="4680" y="1863720"/>
            <a:ext cx="4318200" cy="531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5"/>
          <a:stretch/>
        </p:blipFill>
        <p:spPr>
          <a:xfrm>
            <a:off x="2143080" y="5143680"/>
            <a:ext cx="1908360" cy="230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6"/>
          <a:stretch/>
        </p:blipFill>
        <p:spPr>
          <a:xfrm>
            <a:off x="7451640" y="2965320"/>
            <a:ext cx="1811520" cy="3970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" descr=""/>
          <p:cNvPicPr/>
          <p:nvPr/>
        </p:nvPicPr>
        <p:blipFill>
          <a:blip r:embed="rId7"/>
          <a:srcRect l="0" t="65298" r="0" b="-976"/>
          <a:stretch/>
        </p:blipFill>
        <p:spPr>
          <a:xfrm>
            <a:off x="104760" y="4792680"/>
            <a:ext cx="8143920" cy="180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64" name="Прямоугольник 10"/>
          <p:cNvSpPr/>
          <p:nvPr/>
        </p:nvSpPr>
        <p:spPr>
          <a:xfrm>
            <a:off x="2556000" y="2716200"/>
            <a:ext cx="1873080" cy="1461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1"/>
          <p:cNvSpPr/>
          <p:nvPr/>
        </p:nvSpPr>
        <p:spPr>
          <a:xfrm>
            <a:off x="1206360" y="674640"/>
            <a:ext cx="1873440" cy="144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1235160" y="4998960"/>
            <a:ext cx="1873080" cy="14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13"/>
          <p:cNvSpPr/>
          <p:nvPr/>
        </p:nvSpPr>
        <p:spPr>
          <a:xfrm>
            <a:off x="6443640" y="5251320"/>
            <a:ext cx="1657440" cy="2764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1692360" y="0"/>
            <a:ext cx="62643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ь наступила в стациона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2" descr=""/>
          <p:cNvPicPr/>
          <p:nvPr/>
        </p:nvPicPr>
        <p:blipFill>
          <a:blip r:embed="rId1"/>
          <a:srcRect l="-959" t="72138" r="0" b="0"/>
          <a:stretch/>
        </p:blipFill>
        <p:spPr>
          <a:xfrm>
            <a:off x="0" y="38160"/>
            <a:ext cx="7164360" cy="1768320"/>
          </a:xfrm>
          <a:prstGeom prst="rect">
            <a:avLst/>
          </a:prstGeom>
          <a:ln w="0">
            <a:noFill/>
          </a:ln>
        </p:spPr>
      </p:pic>
      <p:sp>
        <p:nvSpPr>
          <p:cNvPr id="270" name="Овал 5"/>
          <p:cNvSpPr/>
          <p:nvPr/>
        </p:nvSpPr>
        <p:spPr>
          <a:xfrm>
            <a:off x="5602320" y="133200"/>
            <a:ext cx="134604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9" descr=""/>
          <p:cNvPicPr/>
          <p:nvPr/>
        </p:nvPicPr>
        <p:blipFill>
          <a:blip r:embed="rId2"/>
          <a:srcRect l="0" t="64608" r="0" b="0"/>
          <a:stretch/>
        </p:blipFill>
        <p:spPr>
          <a:xfrm>
            <a:off x="1335240" y="2057400"/>
            <a:ext cx="7837200" cy="2023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3"/>
          <a:stretch/>
        </p:blipFill>
        <p:spPr>
          <a:xfrm>
            <a:off x="2411280" y="2341440"/>
            <a:ext cx="1792440" cy="122400"/>
          </a:xfrm>
          <a:prstGeom prst="rect">
            <a:avLst/>
          </a:prstGeom>
          <a:ln w="0">
            <a:noFill/>
          </a:ln>
        </p:spPr>
      </p:pic>
      <p:sp>
        <p:nvSpPr>
          <p:cNvPr id="273" name="Овал 8"/>
          <p:cNvSpPr/>
          <p:nvPr/>
        </p:nvSpPr>
        <p:spPr>
          <a:xfrm>
            <a:off x="0" y="1341360"/>
            <a:ext cx="5602320" cy="465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4"/>
          <a:stretch/>
        </p:blipFill>
        <p:spPr>
          <a:xfrm>
            <a:off x="7545240" y="2593800"/>
            <a:ext cx="1428840" cy="38448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" descr=""/>
          <p:cNvPicPr/>
          <p:nvPr/>
        </p:nvPicPr>
        <p:blipFill>
          <a:blip r:embed="rId5"/>
          <a:srcRect l="-1333" t="61588" r="0" b="0"/>
          <a:stretch/>
        </p:blipFill>
        <p:spPr>
          <a:xfrm>
            <a:off x="96840" y="4629240"/>
            <a:ext cx="7434360" cy="2112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6"/>
          <a:stretch/>
        </p:blipFill>
        <p:spPr>
          <a:xfrm>
            <a:off x="3657600" y="4616280"/>
            <a:ext cx="3887640" cy="48600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13"/>
          <p:cNvSpPr/>
          <p:nvPr/>
        </p:nvSpPr>
        <p:spPr>
          <a:xfrm>
            <a:off x="1187280" y="4869000"/>
            <a:ext cx="914400" cy="10944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7"/>
          <a:stretch/>
        </p:blipFill>
        <p:spPr>
          <a:xfrm>
            <a:off x="6012000" y="6418440"/>
            <a:ext cx="1368360" cy="33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1T13:38:37Z</dcterms:created>
  <dc:creator>gracheva</dc:creator>
  <dc:description/>
  <dc:language>en-US</dc:language>
  <cp:lastModifiedBy>Шарипова Наталья Алексеевна</cp:lastModifiedBy>
  <dcterms:modified xsi:type="dcterms:W3CDTF">2019-12-19T08:53:54Z</dcterms:modified>
  <cp:revision>439</cp:revision>
  <dc:subject/>
  <dc:title>Слайд 1</dc:title>
</cp:coreProperties>
</file>