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93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1.xml" ContentType="application/vnd.openxmlformats-officedocument.theme+xml"/>
  <Override PartName="/ppt/theme/theme16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097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</p:sldMasterIdLst>
  <p:notesMasterIdLst>
    <p:notesMasterId r:id="rId94"/>
  </p:notesMasterIdLst>
  <p:sldIdLst>
    <p:sldId id="256" r:id="rId95"/>
    <p:sldId id="257" r:id="rId96"/>
    <p:sldId id="258" r:id="rId97"/>
    <p:sldId id="259" r:id="rId98"/>
    <p:sldId id="260" r:id="rId99"/>
    <p:sldId id="261" r:id="rId100"/>
    <p:sldId id="262" r:id="rId101"/>
    <p:sldId id="263" r:id="rId102"/>
    <p:sldId id="264" r:id="rId103"/>
    <p:sldId id="265" r:id="rId104"/>
    <p:sldId id="266" r:id="rId105"/>
    <p:sldId id="267" r:id="rId106"/>
    <p:sldId id="268" r:id="rId107"/>
    <p:sldId id="269" r:id="rId108"/>
    <p:sldId id="270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notesMaster" Target="notesMasters/notesMaster1.xml"/><Relationship Id="rId95" Type="http://schemas.openxmlformats.org/officeDocument/2006/relationships/slide" Target="slides/slide1.xml"/><Relationship Id="rId96" Type="http://schemas.openxmlformats.org/officeDocument/2006/relationships/slide" Target="slides/slide2.xml"/><Relationship Id="rId97" Type="http://schemas.openxmlformats.org/officeDocument/2006/relationships/slide" Target="slides/slide3.xml"/><Relationship Id="rId98" Type="http://schemas.openxmlformats.org/officeDocument/2006/relationships/slide" Target="slides/slide4.xml"/><Relationship Id="rId99" Type="http://schemas.openxmlformats.org/officeDocument/2006/relationships/slide" Target="slides/slide5.xml"/><Relationship Id="rId100" Type="http://schemas.openxmlformats.org/officeDocument/2006/relationships/slide" Target="slides/slide6.xml"/><Relationship Id="rId101" Type="http://schemas.openxmlformats.org/officeDocument/2006/relationships/slide" Target="slides/slide7.xml"/><Relationship Id="rId102" Type="http://schemas.openxmlformats.org/officeDocument/2006/relationships/slide" Target="slides/slide8.xml"/><Relationship Id="rId103" Type="http://schemas.openxmlformats.org/officeDocument/2006/relationships/slide" Target="slides/slide9.xml"/><Relationship Id="rId104" Type="http://schemas.openxmlformats.org/officeDocument/2006/relationships/slide" Target="slides/slide10.xml"/><Relationship Id="rId105" Type="http://schemas.openxmlformats.org/officeDocument/2006/relationships/slide" Target="slides/slide11.xml"/><Relationship Id="rId106" Type="http://schemas.openxmlformats.org/officeDocument/2006/relationships/slide" Target="slides/slide12.xml"/><Relationship Id="rId107" Type="http://schemas.openxmlformats.org/officeDocument/2006/relationships/slide" Target="slides/slide13.xml"/><Relationship Id="rId108" Type="http://schemas.openxmlformats.org/officeDocument/2006/relationships/slide" Target="slides/slide14.xml"/><Relationship Id="rId109" Type="http://schemas.openxmlformats.org/officeDocument/2006/relationships/slide" Target="slides/slide15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 type="dt" idx="8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5"/>
          <p:cNvSpPr>
            <a:spLocks noGrp="1"/>
          </p:cNvSpPr>
          <p:nvPr>
            <p:ph type="ftr" idx="8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6"/>
          <p:cNvSpPr>
            <a:spLocks noGrp="1"/>
          </p:cNvSpPr>
          <p:nvPr>
            <p:ph type="sldNum" idx="8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C637E9-BB21-43B2-AD32-08C821DBE4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802ABC-4257-4502-82C8-D1AC9E53632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BA105D-5DBA-436A-97A5-886FEC079F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915A4E-DDA8-4C35-A812-4F062246086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2BD7CF-D6E6-4880-9150-073FF263AFE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591280-B1D2-4E19-9478-27DACFC7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0E50C-734B-4E42-B82E-143BA0FB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62B42-4F07-4BDF-8451-5996F12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43D96-AD22-4E6B-B198-3F0B2D6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CF7BF-00BD-4F44-A2B8-F9CD2F8F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B5BE8-0054-42BB-B18B-72A3BD78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662E2-3172-48E9-92A6-B4F54CD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9D7A5-B068-4976-84F3-D018CD74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10D38-9D85-4559-8070-7A44E006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BA578-0769-42F0-9D42-CD9DBAFD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90BDD-EB11-4C5A-B9F1-42D7A3F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079BA-1D7E-4E00-9473-FD4D3FF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F1A06-D54E-44FD-AB42-6D3E6995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CD969-42E4-4005-9D50-28EDB9C0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AF30D-512E-4912-BF66-D20E4F71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B3CCA-2D02-4FF7-BECF-49C82122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EFFE2-D9DB-410F-B407-4DB83FE6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73CC6-31EB-4EB6-BD0D-661BBB28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088A4-78E7-4A71-8CFD-04884C8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42CC1-36CE-48E7-AFC5-F3929F9A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0C428-DBB7-464A-93AC-F0E8089E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2A09E-6781-4B59-823F-A6BFC46B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8544D-25FC-4C8C-9016-135D6D5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8A98D-2A01-401B-BADA-23A2911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CC6AB-75A9-4288-9D05-6CDD642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F5CD1-CD82-46ED-ABEB-4DD1441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A122C-CA4F-4FBF-9103-16F74BA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EB03D-E2FF-467A-86C0-01E7CD5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C8D18-59AE-4459-8060-DAC3658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1343B3-3F31-4F58-886F-11004AA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175DA-6F24-4041-B0C0-8EFD958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076C5-624F-4691-8DBA-F0002EF3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A1223-CF11-4BFE-BACD-0C2FEE6F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383BB7-5860-4945-B571-6153738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668227-130E-45A8-BED0-FF31663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4333B-5520-4AE6-B263-DE1CEEC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C6CFF-3A60-40AD-9A69-F57E060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4F801B-74DF-4E97-A67A-252DCFB3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5209E-C0A1-4ADD-AE1B-66F4E32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2ECE6E-C47F-48BE-8EDF-1FF10FD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C40112-DAB0-46A6-A7C8-A014EEC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99D236-EA1F-4479-93C3-D82A2E3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0D92F7-D705-4ACB-861B-EB8EE67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7CD92-21C6-4C48-A691-AC25930C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95D72-3105-4445-8298-2FF107B3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C14696-55A2-43E2-AE22-994A01A8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11FC4A-093A-4CF4-A335-2B4F8E9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C2D04B-175D-4B7E-BFFB-3A07A71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CB4E56-6E0F-4D49-BB04-A51FFAB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DEE2C8-94F2-477E-8BFA-82C9683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83DBC-8CEC-4DBC-847B-6308AB1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10BC10-B9D5-480C-82C7-1909C5F0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DAE1BE-AAA4-4431-8485-24DE89E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DCA120-8B19-47A5-960E-F284FFE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D504B-62F1-4066-8CED-20E9947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96C1D-2F6F-40C1-87A5-5DADA036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8547A8-0504-4E3C-BD1E-A67BA157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80C78C-8075-48B7-855D-4475E7B9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95ED8-A2E4-41AE-B76D-EECA8DB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13E26B-BD02-4FF2-966A-0C0951C4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6DDC5-9B05-4E9C-B94B-780E0AAF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58D701-1358-465D-BB09-A99711C7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A252BF-4C9F-4C29-82F1-E8AA4280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476C89-0298-4C4C-9993-545FE33E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E0D445-36B1-44C4-972E-B4186EC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8EB6F7-EEE5-456C-B3CB-95B514E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FC432D-A3DE-4D44-A9C1-CBB1902B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D0DDEC-8A1A-4557-B00E-05C7889C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2FA9D-FEE8-4591-B98A-8273BFD0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B39B4-D358-45BE-8C52-A411D37A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D77709-83D3-49EE-B047-E78D65D5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A5732A-F012-4C72-9CE0-107AE6A5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DA422B-CCEE-47FD-9CBC-EBE278C2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E90398-55EB-41EE-96BD-A475FEA1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2B94A9-7C13-4FED-9C89-A6AF2C6A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DBF192-CB10-4BD5-AD3D-4AB3892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4EB0D3-C961-42E3-ABE7-481BEC6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C2C7E6-334F-4741-9695-178A395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0AD5B2-68D8-4027-B7A0-03E6442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96CD6-BAD9-4BCE-A98F-83FC5EED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181C6D-1D84-400E-9935-6D9F1BD4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71B388-D89F-4A28-A88A-A9BFB830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28780C-7F14-4881-B4F3-1939DD5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30D207-63E8-4626-9C4E-A44F9EB7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A77B33-8A04-43F0-94CF-F4107A5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B6A4C9-8DCA-4927-AE89-D37D240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D5728C-493F-4F88-9DE5-07808DD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DCCFA1-C70F-463C-9DEB-9D9F92F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4D1542-70C2-4B36-95A8-2A3919F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9B19F7-A17A-4925-9612-FA6B06E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C30B54-C7BE-46B4-A9FC-CD5165D7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249D56-6B5B-47FB-93BA-CE1243A1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EFC651-068E-4888-BB7E-977F9D4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59B779-A7CD-4127-8F18-3E10222B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192887-D250-4B1D-BF17-E8249D5F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A79392-AC4D-4EF4-A248-9615E0A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F70690-D704-4092-BB8D-7AA78DA1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C88138-A71C-41DA-AF70-5AB808C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EB8E0F-2FCE-456E-864E-94BD806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DF6C7B-933A-4DF8-823B-1A7848EC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23E9B9-7B23-4DA9-9E5E-D24D380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B5A64E-72DC-45F8-9A67-CEB227D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7F7BA1-0A9A-40BD-820B-E765AAD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236EF5-90FC-4FE1-BFB3-AF51C5E5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A8CD5F-5441-4894-839E-308D6F2F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8D42B-EE0A-40E5-8DEF-13A33A6951D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00989-192A-45B6-BC88-95D0415563A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DE5D5-F690-43C5-9141-B9F2F838515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2E73C-B61C-484D-BFAD-E743CA9FF5E8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DD5B7-2BBA-486E-9814-3FA420C24964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439F2-0383-49C8-A36C-2523950DA75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05BDB-78B6-48B7-AB88-7914828F3C22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6291B-1C0D-44E0-A6B0-59794F54EF77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7A51B-AF0B-43BA-8C74-63F4877E6C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385F5-3CC5-4C37-A6BE-F86DACF705F8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52ED4-A3ED-42EC-9E0D-00C7316DF1B4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DED25-40D2-4A91-9BFD-A0414451E0D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A85A2-9614-442E-86C2-710D3138773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4B526-21BE-46DE-8E95-1D1D43CD071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720FD-2C08-4E90-A1E6-7C0FDB48D55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863F2-B8C2-4263-8403-D3DDBFC3E996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9BF18-DCF6-4AE8-98A8-C2F9AACCF01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5B45C-1C4E-49B2-9A1B-2712FF5B367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128B4-4363-4D4F-9F30-CBF4904F98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7DA17-A60D-494F-9A94-02F64FA8F31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300D2-EA12-474B-9CFB-65D30580575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80D84-BC0E-4077-9AB4-558EB704544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00C93-9B48-4224-BDCB-98345CA0412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7392F-3D51-4E0B-84E4-AB7F9257452D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4138-15CC-4653-844B-34C4EFC122D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84E9-A2CA-42E0-8E69-A5F461E3402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3CAB-1207-4A9C-8661-77C754DFB8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24A3-ED60-4A67-8D93-D67AC3A478AF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DA59-C7B2-450B-9A69-E533C6694FA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D3F0-8C47-4CA6-B924-817AC1190E9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1219-D0FB-42BA-8F32-E1AD82B3AED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1092-E4B8-41F0-8498-06AC57936E37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CB52-DA9F-44CA-9398-913EC85FE4B2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7E3B-911F-4E23-A8A4-DB0012C21E8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9D9B-88CD-40E9-A3AD-7B60A033467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E93B-6649-40DC-9F40-F0ED6D8179C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CC309-CAE9-4B49-AEF2-000174ED16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C4FE73-35E2-4526-8C79-8023C7399D2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A25B2-30BD-4BF7-9A96-19EB1768E8F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EB074-FB81-4B54-A211-9E7E568FBCC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E0F81-A013-4B8A-826B-4ED587E138F8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8706C-D592-4CF7-8FBF-9DCF62BB211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2773D-6C0E-4D23-AB7F-EDE1DCB6EBE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FBD26-DA75-44F8-8FDA-613D684FF73E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155D83-B262-45C8-9BCE-549509F6B76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709D7F-4E6B-4612-8528-896C90C4F16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6B76C-D9F6-49FE-B249-A489ECFD55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401C4-FD87-40AE-9B84-743884258B5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84D2D-524C-4DD0-B662-5ED1A217241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140B7-9858-4770-B3A3-E1B70CA1A472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485F9-7607-4B8E-9F79-3FC99B69B80D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CD74D-181B-4059-86FB-D7EC0B45C32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C79DE-3978-4CB9-941A-92A5B2A7D23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47C5C-D26C-4A3A-96AE-4023381F6BFC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18954-0B8D-442C-AEC4-B1F4872ECC0A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449EB-4163-491C-A2E5-2DA0F30146E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36352-0212-47FA-A989-8F9C71C4CF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9BC0-CC2B-448A-A1E9-305F61F15085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D14C6-7A72-4E67-B81C-695CF50E3FF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CE20F-AFB3-480D-B261-B5E79496B728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BDDFB-FAC4-4A8A-B7F5-7D5C4A65C0D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5797-9B23-46B2-9FD8-09A3068D014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FAEB7-FFE8-422B-AAE8-725BBDCBBB9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D759-F0F4-4533-9D24-451F1FFA2DD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F198-9911-4004-BE70-D309378BCC5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3D8F-86C7-402F-8349-0B5625B7C5A8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C87D-EE02-4FB5-8012-16979BA1808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A557-172F-45EA-BA73-D39716C34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070F-9F5B-474E-8A51-A7194189E366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9A03-31FF-4975-8683-3DE8BB2406A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43A9-E262-4B74-A479-D616253EC22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35E82-C280-4F5F-8D34-BB9F4FC836B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87009-23F4-444A-B5ED-5D282FBA005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807C7-5048-4A06-9D82-A5D4C5EF9A4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D5AA6-95F7-4823-BA91-D88258E019A5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EB485-8546-4344-A114-0F0B23B7C35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BE01C-FBC0-4B1D-AFCC-9126491C66D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76227-07EC-4B91-AE9C-4B77F906C92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542F2-3A71-498A-9935-0040FEECF3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3ECB-3A20-41C0-A43E-DCCD1482AF20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31F56-D9B9-4672-9CDD-47709C25C5A3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2354BD-47C4-48F0-8E70-258638C9628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902DF-F5C2-440A-B8F8-7C1CA97EDAD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78A66-B7E9-4A8C-9F7B-506FF57A63AF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7EA21-0067-4B35-B39E-A03DF369CD01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8BEDFA-957B-4FF0-B04D-E143A62165E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33C541-BD9D-457A-9F40-8006073A0D5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10079-9F10-4EF0-A5A6-40F2E7D1E954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49E6C-6A2E-4047-A439-5C70FCF1EE73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4998C-BD2A-483D-A74F-B17411F7C7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FA8F-970F-4C71-903A-02942F74D374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96CAE-389F-49DB-9CA2-BE5DA9801550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607DF-968B-493E-8533-E8791DD8B170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54C42-0484-4F10-9082-7885031F61F3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223BB-55D2-4248-A692-2E77D4526977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29370-598E-466D-A2B8-FD630D75C30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CD45F-ACF5-471E-BBDB-60B02F360558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F8CA6-3237-4B25-9386-AA6BEFCACC3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008A7-2A3C-4632-8157-C703072C0F74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02D02-6A9B-440A-8F86-251EB7E5BCC4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8F04-487E-4E04-AE37-CBB4B33BE1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A8BC-72A3-4C0B-8EF0-D995BFF8D9EA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2C8C-2A09-402D-89D2-E950C6415788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5E18-4A94-46D1-A2B8-ACEEBE3A70B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002C-76FB-4772-9281-C4D80E889E89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C38A-5CF7-44AC-A83F-2588A5944684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86FE1-A4EF-407D-BA46-55908E5C689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B3D7-56E0-42D1-97D5-67E6508C6DD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04EA-8B0F-49C9-A773-1EA8091F7582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FDDB-FE93-41C8-9AD4-3EAB29834C2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1E36-25B9-4D69-B46C-0D560E2E1CF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7841-493B-4307-88B3-197A3EBE01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FDD9-1218-4D16-A58E-5870C99AED0B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42D4-53C3-452D-9FA7-5C665C9B8E7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734C9-4217-4935-8F3E-64CCAEC2016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AE019E-47C1-4103-A7EE-E19E33FCDAC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30BCB7-7C5D-494A-BAED-431D72872463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0C65C-BA66-4FA7-B702-F1AF8139E49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245C4F-14EE-4853-9E88-BB60A6A9FBB9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B0A57A-6953-4580-AD4B-D00AD58563CA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66BD7-DF3E-4763-9659-895636731EB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4402D-007D-4FAC-892F-44508332395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48D78-2A55-4DF3-90B2-0F684B6926F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9263-3AA7-4A97-A6AF-FE5079D5194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97B1CF-E69E-4115-BAD5-873E156C1100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DEDB6-B086-4253-AED7-83DCC6C73D4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9C302D-EFA4-465E-B2E6-961E4EF6EF8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F6B2-0C97-4D6D-AD6A-1B1B86FF54A5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CA274-00B7-42AC-910C-49014D5F7F2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17A26-60CA-479D-9072-A0813CF7382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D1245-4256-4C35-BF7D-EE0760E0A38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E02CF-4EE3-4A19-86F9-41FDFC1EA2A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DB834-6259-443D-A71F-9A61E0EB58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8C92-FBF6-432F-AA51-C3F3EC24DB7A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43B2D-637C-46D5-A187-ACA0C9B2C6A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90380-AC76-41D3-A4F6-E74B1EC2AA8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0DE4B-FDEC-4501-8E59-BB8CD8E6CAC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80566-63CB-4608-BE1F-8BD8F61D961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A97D2-F50B-4E28-9AFB-3327FE8BE2A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5E2A7-BB3D-467B-9C48-8A53060E234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9B3EC-3B16-4771-94CB-DE6932F71F3E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D6AD-1A2F-4597-A925-803806DAF4C6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3E3A-9E76-41FA-B97D-FE0AF27C298D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4231-A326-4028-BCBC-01D6758CF448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FD17-7B20-4738-A138-32E32265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4E974-8D69-45BE-9514-198DBEE3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60B9-D30A-4DBF-9C03-F2C9A4C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F406C-7B0B-4142-A71C-F144244F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A5618-EC53-4CF8-B65F-A612013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4A571-07B4-47AC-B683-17D05BBC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AC334-C2DF-4E49-9479-B1C62B6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F58E6-DA32-47A6-8F20-90F3FA8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836A7-36E4-4894-B72B-11EEC4F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094C-8DA7-48F5-8877-B0414AE8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B7A07-381D-4EC7-A96B-BCBEFECC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AD2CF-2A9F-4A28-A341-BB84DF62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C08DE-641B-4E8D-A733-D4704EF47427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63DECA-420A-4A6C-8DEB-D201AC7A0330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4901D-802F-4D31-A393-5FB34658B7FE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53CED-968E-47DA-A0E9-A6527A41B458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AE460-4C2C-4DCC-B1CA-9BAFB33AB8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59CEA-632C-4FE4-9075-A921F3525A7E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590A0-42B3-429E-AA2B-ACA8BE492194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216EBC-A5DB-4D07-9D3F-2E2172C0F1D8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59B00-5B68-4208-9F7A-63298ED1476E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17872-2C0C-4BF2-BE88-E0147CB009A1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C0E5C-B789-4AA6-B88C-223411A08FE4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422C62-06EE-4AF2-B111-F457A79D0379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B830-2F08-4A72-ACF6-6AAAF276FA38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CEA3-5F7C-45F7-ABA5-AA79FB70DD92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E8437-138C-4182-B851-4210A7F7EB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AFE4-B600-4E74-973F-CEC79A1B4C13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0D547-60D3-4B6A-8142-24411885CAA7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8568-0F2E-466F-B0F2-F1DC43A07AD8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C102D-1E58-4B53-A46D-861EE91C5637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9F19-FA87-4773-9287-5FC14466E1B3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57CEB-7F64-44D5-84B1-C7AAA88D8822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D375E-F63F-43ED-87CD-39973AA706E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A8FC-E7D1-490D-89D6-40F3E1D8A7E8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D415-22D7-4F53-BCA2-A8629A49B3F5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FF695-D715-4401-A0B3-51B2F93F8B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F51CC-4152-44E2-87BA-A6AD63AE2326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45909-67EB-42DE-9F4E-5336BC2ED0E3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970C8-9B96-4123-914F-03B487FB4CB6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A3D5C-2875-47A9-BE23-8B643EDEB367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9A49A-09FB-4F13-86E3-88D67A647309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C842D-1825-4323-838F-7C5105E8A1C6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C7A69-9556-4563-B948-7B7DFB7BBCB2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5A177-EEB7-4439-A862-22FCC8522EA6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F9A88-9E3E-4336-B170-72D6FFA399D5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E7C8D-ACA2-43C5-8E61-ABD43EE4D7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5BD41-B2F1-4077-B05F-FF57B828825D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39B54-0156-4395-B839-8D95A341935B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9DF4-F944-4CED-8B0E-625507363491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3DDB2-B573-4ECB-A47F-BAFA17821412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61FAD-B56E-406A-BDD1-2698F6001AD6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4694B-38F6-4272-9FB5-BC38F96FFB01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4E8E1-0994-4DE1-AB8B-C8D140A50899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4DFDD-3A64-47F3-B764-A42D40A5943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D595-D1F3-4652-8AC3-C68B37C20275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0F259-2925-4D66-92C9-8B45BE49C6A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776EB-AE46-4770-8D81-3DDF6F0B86AE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6A864-ED59-4ED1-8F62-8673E4C491AB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7CAB6-3008-435D-99FE-65CEF8B0B111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4A408-6508-4DC2-872F-6B9DE0E020F9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E0FD0D-5F0A-4477-BAF2-A5F489DA1574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F3B639-1A5B-42FB-9E6F-A13E849C2A8C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1C10B-DC4E-4A4C-912E-61032597445C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D423A6-31F8-4725-80C9-94E3C040E528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7C76A-152C-407A-B9F9-A434D44FB38A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085DDB-8F4A-4543-B6E0-EFDFB4D016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E46AEE-92D3-4683-9C03-52BCE3C30A9D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60BBD-64CA-4BC0-9D57-A3D05D8E960F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3D4A66-5706-4806-AC4D-F9ACCF72CF82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7FE34C-C8D8-4B02-8D56-361F15740AC6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890A73-2441-4C44-8FEC-A77EBACEA77E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85FC8F-5995-4929-8436-A0E9462A7097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592DC8-35BF-44EB-A51D-09153C5B242B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0F89D6-B161-432C-B8A7-0A387B1E6318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6C5074-5A6E-4179-9E6D-B1C275AF922B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A3F14D-6FB4-42F1-9084-2C8003C18C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3A67E8-42D7-4CFF-8AC5-105EC4CC1C52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2D7B81-E0FC-4F43-9572-2AA7E56DE1AB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4814C-72DF-4374-935C-63D1A53DD135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18E417-38ED-4DD8-A7FE-E584A2CC5ADC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2CB31A-A6E8-4323-A83D-6851ADAD2D7B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3E7619-BCAA-490A-92D3-2FD4C0F5D715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8B8E4D-623E-47B0-BA2A-CCA3F6430BF9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6C6F8-A8B6-4958-9213-1AA29B3F5183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2AD7E-91F5-4FFF-B00D-6C5CA467DA4C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576CC-F56C-4EC4-95BE-716864EFE3F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A730-6F75-43A7-AEC4-CEB8C68B9D4F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A2D1-6918-4268-90FC-8E4D7584558F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4A5AD-B309-4591-BFAA-66895D6BCEBC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21E79-3E4F-4801-A079-1269ADB1B27F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33C77-C6E5-4714-BD05-0854E22CA964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0C453-D0CA-4CAB-B23B-1F05ED346345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BEA8A-9FBD-44BD-B5B0-571689FE1744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ADAE8-8C8F-464E-AE02-AB9294529297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B31D1-9541-43C1-98C0-44F01B536561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2D9C8F-AEA1-4693-86BA-75EA13EF70C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613DBF-F4E1-443C-B89C-455FE8D21D78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20EA06-8827-49D4-9D7D-E11ADEDBBA61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A8ACAA-893F-4F32-A5D0-C9DE5BF5BF76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76C0C7-2559-4603-A9A9-0B0047771348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531588-C8A9-4C6B-8DCE-ABE43F60AF0A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BB92A0-F459-4CB3-8C02-3EAA1990219B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D6764D-6A23-41D4-BBC0-4E1A30A2D911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0E6C8-FFD4-4449-85CF-15C2B7FA2299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B60BC6-522F-4159-BDF6-97540678E0A6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047712-5762-4A20-AFC8-0D09FADCD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1D7527-0F28-4121-93EC-5E2A4F205C71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6DB5CA-DD98-4E58-B813-BB91F80D3BD9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708EB6-2954-44F1-8183-C871CEB9D47D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02E2C1-6B10-4033-A85A-B0B068812703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D20591-40E9-4D93-A48C-340FBA64D448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227E9C-A619-4CC6-8B9B-B44D00F0460B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AE88E7-B7B3-486C-BBC2-4A8D0C2F5A83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DE87BF-85F1-4427-8944-C3F4551BD388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80FACD-3228-428B-87C5-A27B58B2ADD5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43B88C-B4C7-456D-B4F0-3102C6A403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E2F392-2117-4E34-8434-8467D667CFD4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26891D-1A27-4879-996D-7700EBF2AEDA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D9CDB5-27E0-4129-A3A1-5DBDADA9B510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53222-BBEB-4AA0-BBE3-307ADEF0BD66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7318A-484C-4253-BCE3-AC37628F5220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AAEEE-1873-4F6E-BB8A-C6F49EE3626A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863C4-4FCD-45D8-B345-F3C41657C37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FE2BF-88E5-4836-BD7C-6CB636859D88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AA292-64BF-4C7C-B043-8C9381F817B8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61AA4-88DC-4A1F-BBD1-CC82DD27B0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C039D-68C5-447D-974A-FBA59C3250BF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AAAC6-7D82-47E8-92ED-FFDEC26EFCCC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66E89-8038-471D-8ED0-B3AD0B538ACD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06E40-D7DF-4F58-B34F-6F02A64BCE8A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8A531-AA13-4A7B-9028-5DAC05DBD268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2DA9FA-DB53-4E5D-826F-17B5E55B6F12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BB27B1-D526-49F0-B33C-640B3612039C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CA40B8-C6F2-4CE8-A835-6FB151A2754E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281790-4694-4231-BBC8-147162E6B4B6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A2C570-A58B-429F-8207-DA55412BD9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81B2BE-3C47-4F23-BD0C-F4958A378E80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53B2F8-FEA2-4DFC-85CD-8702330AAEE7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6045EC-C38E-48ED-AADC-A209959E4A55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AEC446-E044-4D70-835D-BA0BBD5230F7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0064C0-E505-481E-8DBC-1C1460C0A4C8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0F3D90-414E-4FF8-89FA-5BB75FA77970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DC560A-B0B5-4E57-8451-17F333A3336A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7076DA-CB3D-4077-8DDC-79816B50E5E1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5826AF-1F90-4988-AA7E-F12429D06BEE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CB551A-8CD9-4184-A9C7-A373073991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3A4E5E-F10E-4583-B544-97999789C4D8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703736-E8FF-441B-9C70-D7DDB5979F1A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707827-B9FC-4E44-9356-74FAB06FBD01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F3610B-DF70-41CD-969D-ED917A31A492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506B4A-5675-4546-8A55-B3A16DBFD542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74BEBF-C1C8-44DB-B28F-C776FCCB30C9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ACF67A-EB62-4BA9-A63B-DC4F744E50CF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10AF60-5973-4923-A465-D732BC4AFACC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90F7B5-D564-41F3-BA64-51767867BB7C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CB818-59E5-4AFC-BDF7-E3C8B92E05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C116C-7278-4528-8979-FC9B0CD87A7A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2C969-A0FB-403B-A6CD-FA2D19FB52F5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F431A-A19E-4FF8-A537-C2090376FA80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BFD8A-7A65-423C-82D6-B5DE8E95E41F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91156-9396-4150-962D-9DC7EB5050C4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40CFD-5DAC-4CFA-8304-EBD57352A08E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998B3-4439-4C94-B0C2-CD1E29AC9E0A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7B4AA-BC44-4BA2-8E46-FE368C314EE5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5C3D2-46CA-480E-A694-271B8323AA9C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F7CED-ABB0-455A-B63B-8B888D6993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B3536-19AF-4D4E-824D-8B13999A2AE2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9EAB7-788C-48A1-965F-6CDC4EED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7D37D-823A-4EE8-A479-AEE98083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A5C0D-A521-4205-BB1E-BAA40BB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32FF4-01B9-4EC2-AA0E-D1F5DC8C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68185-16B5-4507-8D6F-FA86014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549AC-7872-4053-878A-03662AB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6B669-1C6F-40D1-95BD-FF87449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8A270-D108-411B-9DB8-68A47280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1761A-39D3-4088-AC62-2C7C409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765CD-987C-4E2D-8E8D-B0515DA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ABBBA-383A-48A9-A286-1563924D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C293B-A027-4540-A62D-B3328DAE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5477F-45F5-4929-86B0-378E1E1F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5F851-6B26-489C-A97D-BB5BBD6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2AEE9-744B-4F0B-8F7A-3957267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E7A2C-7406-4FBB-942B-36B92AF9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77846-773D-47E4-9DC2-FB79EE0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F5DA2-324B-4F3D-850E-8579AD6B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F4B42-3137-4210-BEB8-8E6EE14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20026-C4CF-483C-950B-C57744E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1FA32-BEDC-4861-815C-4276277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FE9DE-A268-44FF-95E4-7F187CF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B0879-15D5-4FC7-A8D4-7E71BD7F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A250C-78F5-46F4-A813-4CB935A2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14B88-24D4-4009-8474-04C91B52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C897B-C674-4FB4-958A-79B3B72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9CB28-5C81-4116-985C-2D5FB8A8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BAB74-45B7-4E88-8FBC-AB58BD0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EE07F-0A81-4C27-AAAD-02D02F15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C1E07-756A-4692-9C36-390DF119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46403-B273-4D47-B813-E85CED9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97BD1-EC00-4BCB-BA24-0729304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6486B6-36E8-4C0F-B3D9-0F98B3C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08ED1-8DE1-4573-8C4F-6B1BB7A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C32FD-A2FB-4278-A9C6-B96CEC3E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548AC-4C11-4494-B87F-39DEB535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E7759-89A5-4BAF-934A-39BB1D6A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6975A-5A5B-41F4-B7E9-2ECA886B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A9687-6CCF-4249-8801-BC2DF02E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7" descr="slide line.pn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55"/>
              </a:gs>
              <a:gs pos="100000">
                <a:srgbClr val="0000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reeform 4"/>
          <p:cNvSpPr/>
          <p:nvPr/>
        </p:nvSpPr>
        <p:spPr>
          <a:xfrm>
            <a:off x="0" y="3886200"/>
            <a:ext cx="9144000" cy="2971800"/>
          </a:xfrm>
          <a:custGeom>
            <a:avLst/>
            <a:gdLst/>
            <a:ahLst/>
            <a:rect l="l" t="t" r="r" b="b"/>
            <a:pathLst>
              <a:path w="9144000" h="2971800">
                <a:moveTo>
                  <a:pt x="0" y="2057400"/>
                </a:moveTo>
                <a:cubicBezTo>
                  <a:pt x="1965366" y="2511631"/>
                  <a:pt x="3581400" y="2171700"/>
                  <a:pt x="5105400" y="1828800"/>
                </a:cubicBezTo>
                <a:cubicBezTo>
                  <a:pt x="6629400" y="1485900"/>
                  <a:pt x="7979229" y="881744"/>
                  <a:pt x="9144000" y="0"/>
                </a:cubicBezTo>
                <a:lnTo>
                  <a:pt x="9144000" y="2971800"/>
                </a:lnTo>
                <a:lnTo>
                  <a:pt x="0" y="2971800"/>
                </a:lnTo>
                <a:lnTo>
                  <a:pt x="0" y="2057400"/>
                </a:lnTo>
                <a:close/>
              </a:path>
            </a:pathLst>
          </a:custGeom>
          <a:gradFill rotWithShape="0">
            <a:gsLst>
              <a:gs pos="0">
                <a:srgbClr val="faa21f"/>
              </a:gs>
              <a:gs pos="100000">
                <a:srgbClr val="b49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5"/>
          <p:cNvSpPr/>
          <p:nvPr/>
        </p:nvSpPr>
        <p:spPr>
          <a:xfrm>
            <a:off x="0" y="3962520"/>
            <a:ext cx="9144000" cy="2971800"/>
          </a:xfrm>
          <a:custGeom>
            <a:avLst/>
            <a:gdLst/>
            <a:ahLst/>
            <a:rect l="l" t="t" r="r" b="b"/>
            <a:pathLst>
              <a:path w="9144000" h="2971800">
                <a:moveTo>
                  <a:pt x="0" y="2057400"/>
                </a:moveTo>
                <a:cubicBezTo>
                  <a:pt x="1965366" y="2511631"/>
                  <a:pt x="3581400" y="2171700"/>
                  <a:pt x="5105400" y="1828800"/>
                </a:cubicBezTo>
                <a:cubicBezTo>
                  <a:pt x="6629400" y="1485900"/>
                  <a:pt x="7979229" y="881744"/>
                  <a:pt x="9144000" y="0"/>
                </a:cubicBezTo>
                <a:lnTo>
                  <a:pt x="9144000" y="2971800"/>
                </a:lnTo>
                <a:lnTo>
                  <a:pt x="0" y="2971800"/>
                </a:lnTo>
                <a:lnTo>
                  <a:pt x="0" y="2057400"/>
                </a:lnTo>
                <a:close/>
              </a:path>
            </a:pathLst>
          </a:custGeom>
          <a:solidFill>
            <a:srgbClr val="000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6"/>
          <p:cNvSpPr/>
          <p:nvPr/>
        </p:nvSpPr>
        <p:spPr>
          <a:xfrm>
            <a:off x="0" y="76320"/>
            <a:ext cx="9144000" cy="2224080"/>
          </a:xfrm>
          <a:custGeom>
            <a:avLst/>
            <a:gdLst/>
            <a:ahLst/>
            <a:rect l="l" t="t" r="r" b="b"/>
            <a:pathLst>
              <a:path w="9144000" h="2223325">
                <a:moveTo>
                  <a:pt x="0" y="13525"/>
                </a:moveTo>
                <a:lnTo>
                  <a:pt x="9144000" y="13525"/>
                </a:lnTo>
                <a:lnTo>
                  <a:pt x="9144000" y="623125"/>
                </a:lnTo>
                <a:cubicBezTo>
                  <a:pt x="7618021" y="3299"/>
                  <a:pt x="3325091" y="0"/>
                  <a:pt x="0" y="2223325"/>
                </a:cubicBezTo>
                <a:lnTo>
                  <a:pt x="0" y="13525"/>
                </a:lnTo>
                <a:close/>
              </a:path>
            </a:pathLst>
          </a:custGeom>
          <a:gradFill rotWithShape="0">
            <a:gsLst>
              <a:gs pos="0">
                <a:srgbClr val="faa21f"/>
              </a:gs>
              <a:gs pos="100000">
                <a:srgbClr val="b49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7"/>
          <p:cNvSpPr/>
          <p:nvPr/>
        </p:nvSpPr>
        <p:spPr>
          <a:xfrm>
            <a:off x="0" y="-14400"/>
            <a:ext cx="9144000" cy="2224080"/>
          </a:xfrm>
          <a:custGeom>
            <a:avLst/>
            <a:gdLst/>
            <a:ahLst/>
            <a:rect l="l" t="t" r="r" b="b"/>
            <a:pathLst>
              <a:path w="9144000" h="2223325">
                <a:moveTo>
                  <a:pt x="0" y="13525"/>
                </a:moveTo>
                <a:lnTo>
                  <a:pt x="9144000" y="13525"/>
                </a:lnTo>
                <a:lnTo>
                  <a:pt x="9144000" y="623125"/>
                </a:lnTo>
                <a:cubicBezTo>
                  <a:pt x="7618021" y="3299"/>
                  <a:pt x="3325091" y="0"/>
                  <a:pt x="0" y="2223325"/>
                </a:cubicBezTo>
                <a:lnTo>
                  <a:pt x="0" y="13525"/>
                </a:lnTo>
                <a:close/>
              </a:path>
            </a:pathLst>
          </a:cu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7" descr="slide line.pn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1F1E88-C381-495A-A06A-6AE929498760}" type="datetime"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7"/>
          </p:nvPr>
        </p:nvSpPr>
        <p:spPr>
          <a:xfrm>
            <a:off x="285840" y="6214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286F58-576B-434B-B377-847AADE47651}" type="datetime"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55"/>
              </a:gs>
              <a:gs pos="100000">
                <a:srgbClr val="0000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Picture 8" descr="PLATO_logo_Study-INVASIVE_white.png"/>
          <p:cNvPicPr/>
          <p:nvPr/>
        </p:nvPicPr>
        <p:blipFill>
          <a:blip r:embed="rId2"/>
          <a:stretch/>
        </p:blipFill>
        <p:spPr>
          <a:xfrm>
            <a:off x="1908000" y="1557360"/>
            <a:ext cx="5328000" cy="2782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4280" y="274680"/>
            <a:ext cx="84153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283328-6796-4C6E-B1F5-5D83C769251A}" type="datetime"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9"/>
          </p:nvPr>
        </p:nvSpPr>
        <p:spPr>
          <a:xfrm>
            <a:off x="285840" y="6214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5C52C-F4A2-435C-90DF-4AFB86BE92F0}" type="datetime"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55"/>
              </a:gs>
              <a:gs pos="100000">
                <a:srgbClr val="0000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Freeform 4"/>
          <p:cNvSpPr/>
          <p:nvPr/>
        </p:nvSpPr>
        <p:spPr>
          <a:xfrm>
            <a:off x="0" y="3886200"/>
            <a:ext cx="9144000" cy="2971800"/>
          </a:xfrm>
          <a:custGeom>
            <a:avLst/>
            <a:gdLst/>
            <a:ahLst/>
            <a:rect l="l" t="t" r="r" b="b"/>
            <a:pathLst>
              <a:path w="9144000" h="2971800">
                <a:moveTo>
                  <a:pt x="0" y="2057400"/>
                </a:moveTo>
                <a:cubicBezTo>
                  <a:pt x="1965366" y="2511631"/>
                  <a:pt x="3581400" y="2171700"/>
                  <a:pt x="5105400" y="1828800"/>
                </a:cubicBezTo>
                <a:cubicBezTo>
                  <a:pt x="6629400" y="1485900"/>
                  <a:pt x="7979229" y="881744"/>
                  <a:pt x="9144000" y="0"/>
                </a:cubicBezTo>
                <a:lnTo>
                  <a:pt x="9144000" y="2971800"/>
                </a:lnTo>
                <a:lnTo>
                  <a:pt x="0" y="2971800"/>
                </a:lnTo>
                <a:lnTo>
                  <a:pt x="0" y="2057400"/>
                </a:lnTo>
                <a:close/>
              </a:path>
            </a:pathLst>
          </a:custGeom>
          <a:gradFill rotWithShape="0">
            <a:gsLst>
              <a:gs pos="0">
                <a:srgbClr val="faa21f"/>
              </a:gs>
              <a:gs pos="100000">
                <a:srgbClr val="b49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Freeform 5"/>
          <p:cNvSpPr/>
          <p:nvPr/>
        </p:nvSpPr>
        <p:spPr>
          <a:xfrm>
            <a:off x="0" y="3962520"/>
            <a:ext cx="9144000" cy="2971800"/>
          </a:xfrm>
          <a:custGeom>
            <a:avLst/>
            <a:gdLst/>
            <a:ahLst/>
            <a:rect l="l" t="t" r="r" b="b"/>
            <a:pathLst>
              <a:path w="9144000" h="2971800">
                <a:moveTo>
                  <a:pt x="0" y="2057400"/>
                </a:moveTo>
                <a:cubicBezTo>
                  <a:pt x="1965366" y="2511631"/>
                  <a:pt x="3581400" y="2171700"/>
                  <a:pt x="5105400" y="1828800"/>
                </a:cubicBezTo>
                <a:cubicBezTo>
                  <a:pt x="6629400" y="1485900"/>
                  <a:pt x="7979229" y="881744"/>
                  <a:pt x="9144000" y="0"/>
                </a:cubicBezTo>
                <a:lnTo>
                  <a:pt x="9144000" y="2971800"/>
                </a:lnTo>
                <a:lnTo>
                  <a:pt x="0" y="2971800"/>
                </a:lnTo>
                <a:lnTo>
                  <a:pt x="0" y="2057400"/>
                </a:lnTo>
                <a:close/>
              </a:path>
            </a:pathLst>
          </a:custGeom>
          <a:solidFill>
            <a:srgbClr val="000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Freeform 6"/>
          <p:cNvSpPr/>
          <p:nvPr/>
        </p:nvSpPr>
        <p:spPr>
          <a:xfrm>
            <a:off x="0" y="76320"/>
            <a:ext cx="9144000" cy="2224080"/>
          </a:xfrm>
          <a:custGeom>
            <a:avLst/>
            <a:gdLst/>
            <a:ahLst/>
            <a:rect l="l" t="t" r="r" b="b"/>
            <a:pathLst>
              <a:path w="9144000" h="2223325">
                <a:moveTo>
                  <a:pt x="0" y="13525"/>
                </a:moveTo>
                <a:lnTo>
                  <a:pt x="9144000" y="13525"/>
                </a:lnTo>
                <a:lnTo>
                  <a:pt x="9144000" y="623125"/>
                </a:lnTo>
                <a:cubicBezTo>
                  <a:pt x="7618021" y="3299"/>
                  <a:pt x="3325091" y="0"/>
                  <a:pt x="0" y="2223325"/>
                </a:cubicBezTo>
                <a:lnTo>
                  <a:pt x="0" y="13525"/>
                </a:lnTo>
                <a:close/>
              </a:path>
            </a:pathLst>
          </a:custGeom>
          <a:gradFill rotWithShape="0">
            <a:gsLst>
              <a:gs pos="0">
                <a:srgbClr val="faa21f"/>
              </a:gs>
              <a:gs pos="100000">
                <a:srgbClr val="b49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Freeform 7"/>
          <p:cNvSpPr/>
          <p:nvPr/>
        </p:nvSpPr>
        <p:spPr>
          <a:xfrm>
            <a:off x="0" y="-14400"/>
            <a:ext cx="9144000" cy="2224080"/>
          </a:xfrm>
          <a:custGeom>
            <a:avLst/>
            <a:gdLst/>
            <a:ahLst/>
            <a:rect l="l" t="t" r="r" b="b"/>
            <a:pathLst>
              <a:path w="9144000" h="2223325">
                <a:moveTo>
                  <a:pt x="0" y="13525"/>
                </a:moveTo>
                <a:lnTo>
                  <a:pt x="9144000" y="13525"/>
                </a:lnTo>
                <a:lnTo>
                  <a:pt x="9144000" y="623125"/>
                </a:lnTo>
                <a:cubicBezTo>
                  <a:pt x="7618021" y="3299"/>
                  <a:pt x="3325091" y="0"/>
                  <a:pt x="0" y="2223325"/>
                </a:cubicBezTo>
                <a:lnTo>
                  <a:pt x="0" y="13525"/>
                </a:lnTo>
                <a:close/>
              </a:path>
            </a:pathLst>
          </a:cu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sldNum" idx="10"/>
          </p:nvPr>
        </p:nvSpPr>
        <p:spPr>
          <a:xfrm>
            <a:off x="8658000" y="6540120"/>
            <a:ext cx="4791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DAD3EF-F6BD-4374-8C3F-5EEB956D74AF}" type="slidenum">
              <a:rPr b="1" lang="en-GB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sldNum" idx="11"/>
          </p:nvPr>
        </p:nvSpPr>
        <p:spPr>
          <a:xfrm>
            <a:off x="8658000" y="6540120"/>
            <a:ext cx="4791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5E8EC8-D374-4C49-8667-FDBDA2154430}" type="slidenum">
              <a:rPr b="1" lang="en-GB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CC0AB-7CEC-4A01-8CA8-95253350A7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slide line.pn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Placeholder 8"/>
          <p:cNvSpPr/>
          <p:nvPr/>
        </p:nvSpPr>
        <p:spPr>
          <a:xfrm>
            <a:off x="257040" y="6211800"/>
            <a:ext cx="4311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306a"/>
                </a:solidFill>
                <a:latin typeface="Arial"/>
              </a:rPr>
              <a:t>Re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sldNum" idx="1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0E4400-F6E5-42B3-9DF0-203CCFBEE6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sldNum" idx="1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602C2D-8893-4A90-9297-CC28785E68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62B49B-E917-47DA-8118-9450C54CFC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BDF3DF-64BF-4C4F-873B-967C1C5C13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sldNum" idx="1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F750A2-C6FC-4569-AB8B-AE98D590B1C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sldNum" idx="18"/>
          </p:nvPr>
        </p:nvSpPr>
        <p:spPr>
          <a:xfrm>
            <a:off x="8695800" y="6540120"/>
            <a:ext cx="406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B09618-A391-4724-AB77-C56B4B2937E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sldNum" idx="19"/>
          </p:nvPr>
        </p:nvSpPr>
        <p:spPr>
          <a:xfrm>
            <a:off x="8658000" y="6540120"/>
            <a:ext cx="4791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D25D9D-1813-4A53-B4F6-E0B1815233E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sldNum" idx="2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7134EB-17DB-4A68-BBCB-23F3C8AA33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TextBox 2"/>
          <p:cNvSpPr/>
          <p:nvPr/>
        </p:nvSpPr>
        <p:spPr>
          <a:xfrm>
            <a:off x="0" y="0"/>
            <a:ext cx="9144000" cy="190548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3200" rIns="403200" tIns="252000" bIns="25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depth of the legibility box can be altered up or down to fit above the last line of typ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oid covering key elements in the image with tex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14280" y="274680"/>
            <a:ext cx="84153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2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FB167E-322A-4B94-88D9-EC338A1E45B5}" type="slidenum">
              <a:rPr b="0" lang="ru-RU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5" descr="SANOFI_Logo_H_2011_Quadri copie"/>
          <p:cNvPicPr/>
          <p:nvPr/>
        </p:nvPicPr>
        <p:blipFill>
          <a:blip r:embed="rId2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14280" y="274680"/>
            <a:ext cx="84153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314280" y="274680"/>
            <a:ext cx="84153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314280" y="274680"/>
            <a:ext cx="84153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314280" y="274680"/>
            <a:ext cx="84153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55"/>
              </a:gs>
              <a:gs pos="100000">
                <a:srgbClr val="0000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2" name="Picture 8" descr="PLATO_logo_Study-INVASIVE_white.png"/>
          <p:cNvPicPr/>
          <p:nvPr/>
        </p:nvPicPr>
        <p:blipFill>
          <a:blip r:embed="rId2"/>
          <a:stretch/>
        </p:blipFill>
        <p:spPr>
          <a:xfrm>
            <a:off x="1908000" y="1557360"/>
            <a:ext cx="5328000" cy="2782800"/>
          </a:xfrm>
          <a:prstGeom prst="rect">
            <a:avLst/>
          </a:prstGeom>
          <a:ln w="0">
            <a:noFill/>
          </a:ln>
        </p:spPr>
      </p:pic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C2EF63-0197-414E-B5BB-C8DB8494EA2A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23AFA8-F7A9-4FFC-8277-FE4C0A11DAA1}" type="datetime"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 type="dt" idx="22"/>
          </p:nvPr>
        </p:nvSpPr>
        <p:spPr>
          <a:xfrm>
            <a:off x="285840" y="6214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DB9479-CA65-40BE-B7DC-6730B98976FB}" type="datetime"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55"/>
              </a:gs>
              <a:gs pos="100000">
                <a:srgbClr val="0000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Freeform 4"/>
          <p:cNvSpPr/>
          <p:nvPr/>
        </p:nvSpPr>
        <p:spPr>
          <a:xfrm>
            <a:off x="0" y="3886200"/>
            <a:ext cx="9144000" cy="2971800"/>
          </a:xfrm>
          <a:custGeom>
            <a:avLst/>
            <a:gdLst/>
            <a:ahLst/>
            <a:rect l="l" t="t" r="r" b="b"/>
            <a:pathLst>
              <a:path w="9144000" h="2971800">
                <a:moveTo>
                  <a:pt x="0" y="2057400"/>
                </a:moveTo>
                <a:cubicBezTo>
                  <a:pt x="1965366" y="2511631"/>
                  <a:pt x="3581400" y="2171700"/>
                  <a:pt x="5105400" y="1828800"/>
                </a:cubicBezTo>
                <a:cubicBezTo>
                  <a:pt x="6629400" y="1485900"/>
                  <a:pt x="7979229" y="881744"/>
                  <a:pt x="9144000" y="0"/>
                </a:cubicBezTo>
                <a:lnTo>
                  <a:pt x="9144000" y="2971800"/>
                </a:lnTo>
                <a:lnTo>
                  <a:pt x="0" y="2971800"/>
                </a:lnTo>
                <a:lnTo>
                  <a:pt x="0" y="2057400"/>
                </a:lnTo>
                <a:close/>
              </a:path>
            </a:pathLst>
          </a:custGeom>
          <a:gradFill rotWithShape="0">
            <a:gsLst>
              <a:gs pos="0">
                <a:srgbClr val="faa21f"/>
              </a:gs>
              <a:gs pos="100000">
                <a:srgbClr val="b49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Freeform 5"/>
          <p:cNvSpPr/>
          <p:nvPr/>
        </p:nvSpPr>
        <p:spPr>
          <a:xfrm>
            <a:off x="0" y="3962520"/>
            <a:ext cx="9144000" cy="2971800"/>
          </a:xfrm>
          <a:custGeom>
            <a:avLst/>
            <a:gdLst/>
            <a:ahLst/>
            <a:rect l="l" t="t" r="r" b="b"/>
            <a:pathLst>
              <a:path w="9144000" h="2971800">
                <a:moveTo>
                  <a:pt x="0" y="2057400"/>
                </a:moveTo>
                <a:cubicBezTo>
                  <a:pt x="1965366" y="2511631"/>
                  <a:pt x="3581400" y="2171700"/>
                  <a:pt x="5105400" y="1828800"/>
                </a:cubicBezTo>
                <a:cubicBezTo>
                  <a:pt x="6629400" y="1485900"/>
                  <a:pt x="7979229" y="881744"/>
                  <a:pt x="9144000" y="0"/>
                </a:cubicBezTo>
                <a:lnTo>
                  <a:pt x="9144000" y="2971800"/>
                </a:lnTo>
                <a:lnTo>
                  <a:pt x="0" y="2971800"/>
                </a:lnTo>
                <a:lnTo>
                  <a:pt x="0" y="2057400"/>
                </a:lnTo>
                <a:close/>
              </a:path>
            </a:pathLst>
          </a:custGeom>
          <a:solidFill>
            <a:srgbClr val="000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Freeform 6"/>
          <p:cNvSpPr/>
          <p:nvPr/>
        </p:nvSpPr>
        <p:spPr>
          <a:xfrm>
            <a:off x="0" y="76320"/>
            <a:ext cx="9144000" cy="2224080"/>
          </a:xfrm>
          <a:custGeom>
            <a:avLst/>
            <a:gdLst/>
            <a:ahLst/>
            <a:rect l="l" t="t" r="r" b="b"/>
            <a:pathLst>
              <a:path w="9144000" h="2223325">
                <a:moveTo>
                  <a:pt x="0" y="13525"/>
                </a:moveTo>
                <a:lnTo>
                  <a:pt x="9144000" y="13525"/>
                </a:lnTo>
                <a:lnTo>
                  <a:pt x="9144000" y="623125"/>
                </a:lnTo>
                <a:cubicBezTo>
                  <a:pt x="7618021" y="3299"/>
                  <a:pt x="3325091" y="0"/>
                  <a:pt x="0" y="2223325"/>
                </a:cubicBezTo>
                <a:lnTo>
                  <a:pt x="0" y="13525"/>
                </a:lnTo>
                <a:close/>
              </a:path>
            </a:pathLst>
          </a:custGeom>
          <a:gradFill rotWithShape="0">
            <a:gsLst>
              <a:gs pos="0">
                <a:srgbClr val="faa21f"/>
              </a:gs>
              <a:gs pos="100000">
                <a:srgbClr val="b49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Freeform 7"/>
          <p:cNvSpPr/>
          <p:nvPr/>
        </p:nvSpPr>
        <p:spPr>
          <a:xfrm>
            <a:off x="0" y="-14400"/>
            <a:ext cx="9144000" cy="2224080"/>
          </a:xfrm>
          <a:custGeom>
            <a:avLst/>
            <a:gdLst/>
            <a:ahLst/>
            <a:rect l="l" t="t" r="r" b="b"/>
            <a:pathLst>
              <a:path w="9144000" h="2223325">
                <a:moveTo>
                  <a:pt x="0" y="13525"/>
                </a:moveTo>
                <a:lnTo>
                  <a:pt x="9144000" y="13525"/>
                </a:lnTo>
                <a:lnTo>
                  <a:pt x="9144000" y="623125"/>
                </a:lnTo>
                <a:cubicBezTo>
                  <a:pt x="7618021" y="3299"/>
                  <a:pt x="3325091" y="0"/>
                  <a:pt x="0" y="2223325"/>
                </a:cubicBezTo>
                <a:lnTo>
                  <a:pt x="0" y="13525"/>
                </a:lnTo>
                <a:close/>
              </a:path>
            </a:pathLst>
          </a:cu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 type="sldNum" idx="23"/>
          </p:nvPr>
        </p:nvSpPr>
        <p:spPr>
          <a:xfrm>
            <a:off x="8658000" y="6540120"/>
            <a:ext cx="4791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4D8F1D-06CC-4AF6-85D7-0E56CF52D711}" type="slidenum">
              <a:rPr b="1" lang="en-GB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 type="sldNum" idx="24"/>
          </p:nvPr>
        </p:nvSpPr>
        <p:spPr>
          <a:xfrm>
            <a:off x="8658000" y="6540120"/>
            <a:ext cx="4791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E15697-F866-4D7D-9C36-9485F554C062}" type="slidenum">
              <a:rPr b="1" lang="en-GB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55"/>
              </a:gs>
              <a:gs pos="100000">
                <a:srgbClr val="0000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PLATO_logo_Study-Non-Invasive_white.png"/>
          <p:cNvPicPr/>
          <p:nvPr/>
        </p:nvPicPr>
        <p:blipFill>
          <a:blip r:embed="rId2"/>
          <a:stretch/>
        </p:blipFill>
        <p:spPr>
          <a:xfrm>
            <a:off x="2050920" y="1413000"/>
            <a:ext cx="5378760" cy="280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0" name="Picture 58" descr="fond_150dpi2"/>
          <p:cNvPicPr/>
          <p:nvPr/>
        </p:nvPicPr>
        <p:blipFill>
          <a:blip r:embed="rId2"/>
          <a:stretch/>
        </p:blipFill>
        <p:spPr>
          <a:xfrm>
            <a:off x="631800" y="625320"/>
            <a:ext cx="7935840" cy="5529240"/>
          </a:xfrm>
          <a:prstGeom prst="rect">
            <a:avLst/>
          </a:prstGeom>
          <a:ln w="0">
            <a:noFill/>
          </a:ln>
        </p:spPr>
      </p:pic>
      <p:pic>
        <p:nvPicPr>
          <p:cNvPr id="2671" name="Picture 52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 type="sldNum" idx="25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1420878D-5FDE-45F1-B428-0B1FEC74D550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ftr" idx="26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sldNum" idx="27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F1DD03A7-0C6F-4F06-A415-7163D5329530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ftr" idx="28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sldNum" idx="29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D5BCACD7-54DA-4C26-AD43-2A55BC266E31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 type="ftr" idx="30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 type="sldNum" idx="31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BFCBAE3D-CAD4-413D-B4D9-ECD5FD75818B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 type="ftr" idx="32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 type="sldNum" idx="33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6E4C61FE-3D53-40EB-A55A-3745FBC25578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ftr" idx="34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 type="sldNum" idx="35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76F40FF4-4CDD-4BF0-BDEF-2A87E142A86A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ftr" idx="36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sldNum" idx="37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EE1ACD45-E2D1-4F7B-BB10-AFE041B83D27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 type="ftr" idx="38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 type="sldNum" idx="39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DCC67BCC-38B3-4BE3-9911-9EFE97F8BBD8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40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 type="sldNum" idx="41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AC2FF0DD-ECA0-4D35-9F9C-02E65DB6BD60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 type="ftr" idx="42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 type="sldNum" idx="43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7D4B3A2A-CDEF-4ADD-8F59-719BA541CCDE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 type="ftr" idx="44"/>
          </p:nvPr>
        </p:nvSpPr>
        <p:spPr>
          <a:xfrm>
            <a:off x="5203440" y="642744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 type="sldNum" idx="45"/>
          </p:nvPr>
        </p:nvSpPr>
        <p:spPr>
          <a:xfrm>
            <a:off x="8085240" y="6424200"/>
            <a:ext cx="48240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|</a:t>
            </a:r>
            <a:r>
              <a:rPr b="0" lang="en-US" sz="9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         </a:t>
            </a:r>
            <a:fld id="{EC13E4C4-00CA-45F8-91E5-742DB4636F1D}" type="slidenum">
              <a:rPr b="0" lang="en-US" sz="800" spc="-1" strike="noStrike" baseline="16000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20EC2B-AE32-4452-8951-783E9A11357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D12FDB-DD57-4DB5-9A74-9DF28B07293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5AC97B-D5FC-46F6-B5CB-15C2814BDDAC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B77562-A0FE-4531-BDFD-8B2CC117ACB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475D25-D5D1-4E36-9691-82C4EA2BA686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33AA6D-0CD7-47F4-B76F-F36F43EC67C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2818D4-2B4E-4538-8D30-4CC20CF9F8B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DBE093-406E-417A-AC32-17EF6381D8C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2462EC-7218-4A17-AE95-EB3DE905BFB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9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94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943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C3643D-8438-4AFD-BF10-E374396794A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C7AB6A-97A5-4774-8B98-252875350FA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0e3c"/>
            </a:gs>
            <a:gs pos="100000">
              <a:srgbClr val="a75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 type="dt" idx="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614677-D3F1-47A9-ABE0-AD8DC162370F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Text Box 9"/>
          <p:cNvSpPr/>
          <p:nvPr/>
        </p:nvSpPr>
        <p:spPr>
          <a:xfrm>
            <a:off x="900000" y="1197000"/>
            <a:ext cx="7632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Особенности кодирования причин смерт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в классе </a:t>
            </a:r>
            <a:r>
              <a:rPr b="1" lang="en-US" sz="3600" spc="-1" strike="noStrike">
                <a:solidFill>
                  <a:srgbClr val="fc6918"/>
                </a:solidFill>
                <a:latin typeface="Times New Roman"/>
              </a:rPr>
              <a:t>IX</a:t>
            </a:r>
            <a:r>
              <a:rPr b="1" lang="ru-RU" sz="3600" spc="-1" strike="noStrike">
                <a:solidFill>
                  <a:srgbClr val="fc6918"/>
                </a:solidFill>
                <a:latin typeface="Times New Roman"/>
              </a:rPr>
              <a:t>  «Болезни системы кровообращ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Прямоугольник 1"/>
          <p:cNvSpPr/>
          <p:nvPr/>
        </p:nvSpPr>
        <p:spPr>
          <a:xfrm>
            <a:off x="1476360" y="5346720"/>
            <a:ext cx="641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Главный внештатный специалист кардиолог  ДЗ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Константинов С.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г.Белгор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Прямоугольник 2"/>
          <p:cNvSpPr/>
          <p:nvPr/>
        </p:nvSpPr>
        <p:spPr>
          <a:xfrm>
            <a:off x="468360" y="3573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Некоронарогенные некроз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окарда могут развиваться при обменно-электролитных нарушениях, как осложнения многих тяжелых заболеваний (синдромы органной недостаточности), при интоксикациях, миокардитах, в терминальном состоянии, как элемент реанимационной боле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терия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их патологоанатомической диагностики являются наличие заболеваний и их осложнений, характерная макро- и микроскопическая картина поражения миокарда, отсутствие нестабильных атеросклеротических бляшек, окклюзии, васкулита, аномалий развития и других тяжелых поражений коронарных артерий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Прямоугольник 3"/>
          <p:cNvSpPr/>
          <p:nvPr/>
        </p:nvSpPr>
        <p:spPr>
          <a:xfrm>
            <a:off x="395280" y="119700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Некроз миокарда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— гетерогенная по этиологии, пато- и морфогенезу группа его тяжелых поражений, лишь часть из которых является инфарктом миокарда — нозологической единицей из группы ишемических болезней сердца и может быть выставлена в диагнозе как основное заболевание (или как компонент комбинированного основного заболевани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других случаях некрозы миокарда (некоронарогенные метаболические или гипоксические, коронарогенные ишемические) являются проявлениями или осложнениями различных заболев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Прямоугольник 4"/>
          <p:cNvSpPr/>
          <p:nvPr/>
        </p:nvSpPr>
        <p:spPr>
          <a:xfrm>
            <a:off x="125280" y="189000"/>
            <a:ext cx="8820360" cy="642600"/>
          </a:xfrm>
          <a:prstGeom prst="rect">
            <a:avLst/>
          </a:prstGeom>
          <a:noFill/>
          <a:ln w="9360">
            <a:solidFill>
              <a:srgbClr val="2ef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Консенсус профильной комиссии по специальности «патологическая анатомия» экспертного совета Минздрава Российской Федерации от 27 февраля 201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Прямоугольник 6"/>
          <p:cNvSpPr/>
          <p:nvPr/>
        </p:nvSpPr>
        <p:spPr>
          <a:xfrm>
            <a:off x="316080" y="765000"/>
            <a:ext cx="84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рые или терминальные болезни системы кровообращения, описанные как связанные со злокачественным новообразованием (C00—C75), сахарным диабетом (Е10—Е14) или бронхиальной астмой (J45—J46), которые должны быть приняты </a:t>
            </a:r>
            <a:r>
              <a:rPr b="0" i="1" lang="ru-RU" sz="1600" spc="-1" strike="noStrike" u="sng">
                <a:solidFill>
                  <a:srgbClr val="2efafa"/>
                </a:solidFill>
                <a:uFillTx/>
                <a:latin typeface="Times New Roman"/>
                <a:ea typeface="Times New Roman"/>
              </a:rPr>
              <a:t>как возможные </a:t>
            </a:r>
            <a:r>
              <a:rPr b="0" i="1" lang="ru-RU" sz="16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последовательности в части I медицинского свидетельства о смерти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Прямоугольник 7"/>
          <p:cNvSpPr/>
          <p:nvPr/>
        </p:nvSpPr>
        <p:spPr>
          <a:xfrm>
            <a:off x="755640" y="1841400"/>
            <a:ext cx="7875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21.— Острый инфаркт миокар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22.— Повторный инфаркт миокард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24.— Другие острые ишемические болезни серд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26.— Легочная эмбол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30.— Острый перикарди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33.— Острый и подострый эндокарди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40.— Острый миокарди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44.— Предсердно-желудочковая [атриовентрикулярная] блокада и блокада левой ножки пучка Гис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45.— Другие нарушения провод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46.— Остановка серд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47.— Пароксизмальная тахикард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48. — Фибрилляция и трепетание предсерд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49.— Другие нарушения сердечного рит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50.— Сердечная недостаточ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51.8. — Другие неточно обозначенные болезни серд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60.— Субарахноидальное кровоизли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61.— Внутримозговое кровоизли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2.— Другое нетравматическое внутримозговое кровоизли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63.— Инфаркт моз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I64.— Инсульт, не уточненный как кровоизлияние или инфар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5.— Закупорка и стеноз прецеребральных артерий, не приводящие к инфаркту моз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6.— Закупорка и стеноз церебральных артерий, не приводящие к инфаркту моз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7.6. — Негнойный тромбоз внутричерепной венозной систе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7.7. — Церебральный артериит, не классифицированный в других рубри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7.8. — Другие уточненные поражения сосудов моз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69. — Последствия цереброваскулярных болезн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Прямоугольник 11"/>
          <p:cNvSpPr/>
          <p:nvPr/>
        </p:nvSpPr>
        <p:spPr>
          <a:xfrm>
            <a:off x="160200" y="119160"/>
            <a:ext cx="8821800" cy="642600"/>
          </a:xfrm>
          <a:prstGeom prst="rect">
            <a:avLst/>
          </a:prstGeom>
          <a:noFill/>
          <a:ln w="9360">
            <a:solidFill>
              <a:srgbClr val="2ef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Консенсус профильной комиссии по специальности «патологическая анатомия» экспертного совета Минздрава Российской Федерации от 27 февраля 201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8420e"/>
                </a:solidFill>
                <a:latin typeface="Arial"/>
                <a:ea typeface="Calibri"/>
              </a:rPr>
              <a:t>"Внезапная сердечная смерть" (I46.1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6" name="Прямоугольник 4"/>
          <p:cNvSpPr/>
          <p:nvPr/>
        </p:nvSpPr>
        <p:spPr>
          <a:xfrm>
            <a:off x="298440" y="836640"/>
            <a:ext cx="84247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Рубрику </a:t>
            </a:r>
            <a:r>
              <a:rPr b="1" lang="ru-RU" sz="1800" spc="-1" strike="noStrike">
                <a:solidFill>
                  <a:srgbClr val="e8420e"/>
                </a:solidFill>
                <a:latin typeface="Times New Roman"/>
                <a:ea typeface="Calibri"/>
              </a:rPr>
              <a:t>"Внезапная сердечная смерть" (I46.1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едует использовать в клиническом и патологоанатомическом диагнозах в крайне редких случаях, когда характер патологического процесса (заболевания) и соответствующего морфологического субстрата не удается установить, а также при 100% исключении насильственного характера смерти. Использование диагноза внезапной сердечной смерти (I46.1)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без проведения патологоанатомического исследова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(если в данном медицинском учреждении, регионе есть условия для его проведения) следует считать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правомерны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e8420e"/>
                </a:solidFill>
                <a:latin typeface="Times New Roman"/>
                <a:ea typeface="Calibri"/>
              </a:rPr>
              <a:t>Внезапная коронарная смерть (код I24.8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- это частный случай внезапной сердечной смерти. Внезапная коронарная смерть - самостоятельная нозологическая единица из группы ИБС, поэтому этот диагноз правомер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гласно информационно-методическому письму Министерства здравоохранения Российской Федерации "Использование МКБ-10 в практике отечественной медицины" (2011г.), все случаи внезапной сердечной смерти, развившиеся у больного с ИБС, должны формулироваться как "внезапная коронарная смерть" и шифроваться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I24.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я всех остальных случаев внезапной смерти (как на фоне сердечно-сосудистых заболеваний, так и без таковых) диагноз следует формулировать как "внезапная сердечная смерть" и соответственно шифровать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I46.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Прямоугольник 2"/>
          <p:cNvSpPr/>
          <p:nvPr/>
        </p:nvSpPr>
        <p:spPr>
          <a:xfrm>
            <a:off x="468360" y="386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efafa"/>
                </a:solidFill>
                <a:latin typeface="Times New Roman"/>
                <a:ea typeface="Calibri"/>
              </a:rPr>
              <a:t>Формулировка диагноза в случае, когда пациент при жизни не страдал ИБС, умер во сне и вне медицинского учре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Основное заболеван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1.  Внезапная сердечная смерть </a:t>
            </a: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Calibri"/>
              </a:rPr>
              <a:t>I46.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Гипертоническая болезнь (стадия, степень, дополнительный сердечно-сосудистый риск, факторы риска, поражение органов мишен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Осложнения основного заболевания: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ХСН IIA стадии, I Ф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Прямоугольник 3"/>
          <p:cNvSpPr/>
          <p:nvPr/>
        </p:nvSpPr>
        <p:spPr>
          <a:xfrm>
            <a:off x="468360" y="476280"/>
            <a:ext cx="8136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efafa"/>
                </a:solidFill>
                <a:latin typeface="Times New Roman"/>
                <a:ea typeface="Calibri"/>
              </a:rPr>
              <a:t>Формулировка диагноза в случае, когда пациент длительное время страдал ИБС и умер во с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Основное заболев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1.  Внезапная коронарная смерть </a:t>
            </a: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Calibri"/>
              </a:rPr>
              <a:t>I24.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Постинфарктный кардиосклероз (инфаркт миокарда, его известные характеристики, да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Фоновое заболевание: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3. Гипертоническая болезнь (стадия, степ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полнительный сердечно-сосудистый риск, факторы риска, пора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органов мишен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Осложнения основного заболевания: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ХСН IIA стадии, II Ф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9" name=""/>
          <p:cNvGraphicFramePr/>
          <p:nvPr/>
        </p:nvGraphicFramePr>
        <p:xfrm>
          <a:off x="468360" y="1844640"/>
          <a:ext cx="8280360" cy="4032360"/>
        </p:xfrm>
        <a:graphic>
          <a:graphicData uri="http://schemas.openxmlformats.org/drawingml/2006/table">
            <a:tbl>
              <a:tblPr/>
              <a:tblGrid>
                <a:gridCol w="2759040"/>
                <a:gridCol w="2760480"/>
                <a:gridCol w="2760840"/>
              </a:tblGrid>
              <a:tr h="11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нные анамнеза и/или патологоанатомического ис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Основное заболевание заключительного клинического/патологоанатомического диагн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Шифр по МКБ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efafa"/>
                          </a:solidFill>
                          <a:latin typeface="Times New Roman"/>
                          <a:ea typeface="Calibri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2efafa"/>
                          </a:solidFill>
                          <a:latin typeface="Times New Roman"/>
                          <a:ea typeface="Calibri"/>
                        </a:rPr>
                        <a:t>ИБС</a:t>
                      </a:r>
                      <a:r>
                        <a:rPr b="1" lang="ru-RU" sz="1600" spc="-1" strike="noStrike">
                          <a:solidFill>
                            <a:srgbClr val="2efafa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Внезапная коронарная смерть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I24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efafa"/>
                          </a:solidFill>
                          <a:latin typeface="Times New Roman"/>
                          <a:ea typeface="Calibri"/>
                        </a:rPr>
                        <a:t>Другое сердечно-сосудистое забол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Внезапная сердечная смерть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I46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efafa"/>
                          </a:solidFill>
                          <a:latin typeface="Times New Roman"/>
                          <a:ea typeface="Calibri"/>
                        </a:rPr>
                        <a:t>Отсутствие сердечно-сосудистых заболев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60" name="Rectangle 1"/>
          <p:cNvSpPr/>
          <p:nvPr/>
        </p:nvSpPr>
        <p:spPr>
          <a:xfrm>
            <a:off x="0" y="40788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511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Calibri"/>
              </a:rPr>
              <a:t>Принципы формулировки диагноза и шиф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Calibri"/>
              </a:rPr>
              <a:t>при внезапной сердечной (коронарной) смер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75614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7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Lucida Sans Unicode"/>
              </a:rPr>
              <a:t>Класс </a:t>
            </a:r>
            <a:r>
              <a:rPr b="1" lang="en-US" sz="2400" spc="-1" strike="noStrike">
                <a:solidFill>
                  <a:srgbClr val="fc6918"/>
                </a:solidFill>
                <a:latin typeface="Times New Roman"/>
                <a:ea typeface="Lucida Sans Unicode"/>
              </a:rPr>
              <a:t>IX</a:t>
            </a: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Lucida Sans Unicode"/>
              </a:rPr>
              <a:t>  «Болезни системы кровообращения»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4" name="Прямоугольник 5"/>
          <p:cNvSpPr/>
          <p:nvPr/>
        </p:nvSpPr>
        <p:spPr>
          <a:xfrm>
            <a:off x="309600" y="1197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1ff74"/>
                </a:solidFill>
                <a:latin typeface="Times New Roman"/>
                <a:ea typeface="Times New Roman"/>
              </a:rPr>
              <a:t>Показатель смертности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болезней системы кровообращения в Российской Федерации более чем в 3 раза превышает аналогичный показатель в странах Европейского Союз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олевания группы ишемических болезней сердца (I20—I25) в Российской Федерации выбираются в качестве первоначальной причины смерти в 3,1 раза, а цереброваскулярные болезни (I60—I69) — в 4,1 раза чаще, чем в Евро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Прямоугольник 6"/>
          <p:cNvSpPr/>
          <p:nvPr/>
        </p:nvSpPr>
        <p:spPr>
          <a:xfrm>
            <a:off x="326880" y="4941720"/>
            <a:ext cx="826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1ff74"/>
                </a:solidFill>
                <a:latin typeface="Times New Roman"/>
                <a:ea typeface="Times New Roman"/>
              </a:rPr>
              <a:t>Бóльшая часть ошибок формулировки диагнозов и оформления медицинских свидетельств о смерти связана с необоснованным искусственным приоритетом острых и хронических форм ишемических болезней сердца (I20—I25) и цереброваскулярных болезней (I60—I69) при выборе первоначальной причины смер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6" name="Picture 2" descr=""/>
          <p:cNvPicPr/>
          <p:nvPr/>
        </p:nvPicPr>
        <p:blipFill>
          <a:blip r:embed="rId1"/>
          <a:stretch/>
        </p:blipFill>
        <p:spPr>
          <a:xfrm>
            <a:off x="309600" y="3141720"/>
            <a:ext cx="8302680" cy="165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51147"/>
            </a:outerShdw>
          </a:effectLst>
        </p:spPr>
      </p:pic>
      <p:pic>
        <p:nvPicPr>
          <p:cNvPr id="3617" name="Picture 14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7016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object 2"/>
          <p:cNvSpPr/>
          <p:nvPr/>
        </p:nvSpPr>
        <p:spPr>
          <a:xfrm>
            <a:off x="514440" y="1046160"/>
            <a:ext cx="8629560" cy="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object 3"/>
          <p:cNvSpPr/>
          <p:nvPr/>
        </p:nvSpPr>
        <p:spPr>
          <a:xfrm>
            <a:off x="514440" y="1046160"/>
            <a:ext cx="8629560" cy="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object 4"/>
          <p:cNvSpPr/>
          <p:nvPr/>
        </p:nvSpPr>
        <p:spPr>
          <a:xfrm>
            <a:off x="514440" y="1052640"/>
            <a:ext cx="8629560" cy="1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object 15"/>
          <p:cNvSpPr/>
          <p:nvPr/>
        </p:nvSpPr>
        <p:spPr>
          <a:xfrm>
            <a:off x="7489800" y="698400"/>
            <a:ext cx="376200" cy="21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object 16"/>
          <p:cNvSpPr/>
          <p:nvPr/>
        </p:nvSpPr>
        <p:spPr>
          <a:xfrm>
            <a:off x="7494480" y="407880"/>
            <a:ext cx="366840" cy="514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108000" y="490680"/>
            <a:ext cx="8245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118080" bIns="0" anchor="ctr">
            <a:noAutofit/>
          </a:bodyPr>
          <a:p>
            <a:pPr marL="12207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5703"/>
                </a:solidFill>
                <a:latin typeface="Arial"/>
              </a:rPr>
              <a:t>БЛОК «ИШЕМИЧЕСКИЕ БОЛЕЗНИ СЕРДЦА» </a:t>
            </a:r>
            <a:r>
              <a:rPr b="1" lang="en-GB" sz="2000" spc="-1" strike="noStrike">
                <a:solidFill>
                  <a:srgbClr val="ef5703"/>
                </a:solidFill>
                <a:latin typeface="Arial"/>
                <a:ea typeface="Times New Roman"/>
              </a:rPr>
              <a:t>(I20-I25)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4" name="object 18"/>
          <p:cNvSpPr/>
          <p:nvPr/>
        </p:nvSpPr>
        <p:spPr>
          <a:xfrm>
            <a:off x="874800" y="1484280"/>
            <a:ext cx="79088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Основные ошибки (по результатам проверок</a:t>
            </a:r>
            <a:r>
              <a:rPr b="1" i="1" lang="ru-RU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выстраивается логическая последовательность патогенеза боле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88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ется в качестве непосредственной причины смерти состояние - «Сердечная недостаточность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верно кодируются внесенные диагнозы (текст диагноза не соответствует выбранному коду по МКБ-10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88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верно кодируется постинфарктный кардиосклероз (применяют код  I25.2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88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ачестве первоначальной причины смерти используется термин «Ишемиче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знь сердц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харный диабет при сочетании с инфарктом миокарда не выбирается в качестве первоначальной причины смерти, а вносится во II часть свидетельства, кромке того, диагноз СД вносится неполный и неверно кодиру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88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I части свидетельства допускается внесение 2 самостоятельных нозологий, несоблюдение логической последова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ускается применение аббревиат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Прямоугольник 2"/>
          <p:cNvSpPr/>
          <p:nvPr/>
        </p:nvSpPr>
        <p:spPr>
          <a:xfrm>
            <a:off x="684360" y="476280"/>
            <a:ext cx="7913520" cy="3501000"/>
          </a:xfrm>
          <a:prstGeom prst="rect">
            <a:avLst/>
          </a:prstGeom>
          <a:solidFill>
            <a:srgbClr val="f9e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МИНИСТЕРСТВО ЗДРАВООХРАНЕНИЯ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ИСЬ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т 14 марта 2013 года N 13-7/10/2-16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б особенностях кодирования некоторых заболеваний класса IX МКБ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Министерство здравоохранения Российской Федерации направляет для использования в работе рекомендации по кодированию некоторых заболеваний класса IX "Болезни системы кровообращения" МКБ-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Т.В.Яковле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Прямоугольник 2"/>
          <p:cNvSpPr/>
          <p:nvPr/>
        </p:nvSpPr>
        <p:spPr>
          <a:xfrm>
            <a:off x="627120" y="4292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Lucida Sans Unicode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Lucida Sans Unicode"/>
              </a:rPr>
              <a:t>Пункт 19 раздела "Причины смерти" Свидетельства должен быть заполнен на основании медицинской документации - "посмертного эпикриза", в заключительной части которого должен быть четко отражен заключительный диагноз: основной клинический или патологоанатомический диагноз с осложнениями, фоновые, конкурирующие и сопутствующие заболе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object 2"/>
          <p:cNvSpPr/>
          <p:nvPr/>
        </p:nvSpPr>
        <p:spPr>
          <a:xfrm>
            <a:off x="514440" y="1046160"/>
            <a:ext cx="8629560" cy="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object 3"/>
          <p:cNvSpPr/>
          <p:nvPr/>
        </p:nvSpPr>
        <p:spPr>
          <a:xfrm>
            <a:off x="514440" y="1046160"/>
            <a:ext cx="8629560" cy="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object 4"/>
          <p:cNvSpPr/>
          <p:nvPr/>
        </p:nvSpPr>
        <p:spPr>
          <a:xfrm>
            <a:off x="514440" y="1052640"/>
            <a:ext cx="8629560" cy="1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object 7"/>
          <p:cNvSpPr/>
          <p:nvPr/>
        </p:nvSpPr>
        <p:spPr>
          <a:xfrm>
            <a:off x="7670880" y="762120"/>
            <a:ext cx="488880" cy="277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object 8"/>
          <p:cNvSpPr/>
          <p:nvPr/>
        </p:nvSpPr>
        <p:spPr>
          <a:xfrm>
            <a:off x="7675560" y="374760"/>
            <a:ext cx="480960" cy="67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109440" y="248760"/>
            <a:ext cx="8855280" cy="551160"/>
          </a:xfrm>
          <a:prstGeom prst="rect">
            <a:avLst/>
          </a:prstGeom>
          <a:noFill/>
          <a:ln w="0">
            <a:noFill/>
          </a:ln>
        </p:spPr>
        <p:txBody>
          <a:bodyPr lIns="0" rIns="0" tIns="119880" bIns="0" anchor="ctr">
            <a:noAutofit/>
          </a:bodyPr>
          <a:p>
            <a:pPr marL="996840" indent="0" algn="ctr">
              <a:lnSpc>
                <a:spcPct val="100000"/>
              </a:lnSpc>
              <a:buNone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8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БОЛЕЗНИ СИСТЕМЫ</a:t>
            </a:r>
            <a:r>
              <a:rPr b="1" lang="ru-RU" sz="28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ef5703"/>
                </a:solidFill>
                <a:latin typeface="Times New Roman"/>
                <a:ea typeface="Times New Roman"/>
              </a:rPr>
              <a:t>КРОВООБРАЩЕН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3" name="object 10"/>
          <p:cNvSpPr/>
          <p:nvPr/>
        </p:nvSpPr>
        <p:spPr>
          <a:xfrm>
            <a:off x="693720" y="1187280"/>
            <a:ext cx="7756560" cy="46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lnSpc>
                <a:spcPct val="100000"/>
              </a:lnSpc>
              <a:buClr>
                <a:srgbClr val="750a3c"/>
              </a:buClr>
              <a:buSzPct val="69000"/>
              <a:buFont typeface="Wingdings" charset="2"/>
              <a:buChar char=""/>
              <a:tabLst>
                <a:tab algn="l" pos="298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«Легочная эмболия» (I26)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правило, развивается как осложнение других заболеваний и поэтому не используется в качестве первоначальной причины смер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buClr>
                <a:srgbClr val="750a3c"/>
              </a:buClr>
              <a:buSzPct val="69000"/>
              <a:buFont typeface="Wingdings" charset="2"/>
              <a:buChar char=""/>
              <a:tabLst>
                <a:tab algn="l" pos="298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«Диагноз «Кардиомиопатия» (I42)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лжен быть подтвержден в специализированной медицинской организации с обязательным указанием конкретной формы заболевания, предусмотренной МКБ-10, например, дилатационная кардиомиопатия, алкогольная кардиомиопатия и т.д. В качестве первоначальной причины смерти использовать диагноз «Неуточненная форма кардиомиопатии» недопустимо. В этом случае проведение патологоанатомического вскрытия обяз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750a3c"/>
              </a:buClr>
              <a:buSzPct val="69000"/>
              <a:buFont typeface="Wingdings" charset="2"/>
              <a:buChar char=""/>
              <a:tabLst>
                <a:tab algn="l" pos="298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сочетании </a:t>
            </a:r>
            <a:r>
              <a:rPr b="0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болезни Паркинсона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нарушениями сердечного ритма, пневмонией, заболеваниями мочевой системы в качестве первоначальной причины смерти выбирают </a:t>
            </a:r>
            <a:r>
              <a:rPr b="0" i="1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болезнь Паркинсона (G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object 2"/>
          <p:cNvSpPr/>
          <p:nvPr/>
        </p:nvSpPr>
        <p:spPr>
          <a:xfrm>
            <a:off x="514440" y="1046160"/>
            <a:ext cx="8629560" cy="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object 3"/>
          <p:cNvSpPr/>
          <p:nvPr/>
        </p:nvSpPr>
        <p:spPr>
          <a:xfrm>
            <a:off x="514440" y="1046160"/>
            <a:ext cx="8629560" cy="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object 4"/>
          <p:cNvSpPr/>
          <p:nvPr/>
        </p:nvSpPr>
        <p:spPr>
          <a:xfrm>
            <a:off x="514440" y="1052640"/>
            <a:ext cx="8629560" cy="1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object 7"/>
          <p:cNvSpPr/>
          <p:nvPr/>
        </p:nvSpPr>
        <p:spPr>
          <a:xfrm>
            <a:off x="6462720" y="352440"/>
            <a:ext cx="376200" cy="210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object 8"/>
          <p:cNvSpPr/>
          <p:nvPr/>
        </p:nvSpPr>
        <p:spPr>
          <a:xfrm>
            <a:off x="6467400" y="61920"/>
            <a:ext cx="366840" cy="514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object 17"/>
          <p:cNvSpPr/>
          <p:nvPr/>
        </p:nvSpPr>
        <p:spPr>
          <a:xfrm>
            <a:off x="5772240" y="900000"/>
            <a:ext cx="376200" cy="212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object 18"/>
          <p:cNvSpPr/>
          <p:nvPr/>
        </p:nvSpPr>
        <p:spPr>
          <a:xfrm>
            <a:off x="5776920" y="611280"/>
            <a:ext cx="366840" cy="5126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object 19"/>
          <p:cNvSpPr/>
          <p:nvPr/>
        </p:nvSpPr>
        <p:spPr>
          <a:xfrm>
            <a:off x="2543040" y="235080"/>
            <a:ext cx="4837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21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6c1c"/>
                </a:solidFill>
                <a:latin typeface="Times New Roman"/>
                <a:ea typeface="Times New Roman"/>
              </a:rPr>
              <a:t>КОДИРОВАНИЕ ПРИЧИН СМЕР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object 20"/>
          <p:cNvSpPr/>
          <p:nvPr/>
        </p:nvSpPr>
        <p:spPr>
          <a:xfrm>
            <a:off x="455760" y="574560"/>
            <a:ext cx="8383320" cy="56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6c1c"/>
                </a:solidFill>
                <a:latin typeface="Times New Roman"/>
                <a:ea typeface="Times New Roman"/>
              </a:rPr>
              <a:t>БЛОК «БОЛЕЗНИ, ХАРАКТЕРИЗУЮЩИЕСЯ ПОВЫШЕННЫМ КРОВЯ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6c1c"/>
                </a:solidFill>
                <a:latin typeface="Times New Roman"/>
                <a:ea typeface="Times New Roman"/>
              </a:rPr>
              <a:t>ДАВЛЕНИЕМ» (I10-I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750a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Вторичная гипертензия (I15) 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используется в качестве первоначальной причины смерти (должно быть указано и выбрано первичное заболевание, вызвавшее вторичную гипертензию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buClr>
                <a:srgbClr val="750a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750a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ссенциальная артериальная гипертензия  или гипертензивная болезнь </a:t>
            </a:r>
            <a:r>
              <a:rPr b="1" i="1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(I10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750a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выбирается статистиком в качестве первоначальной причины смерти только если является единственным записанным в Свидетельстве «основным» состоян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750a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fafa"/>
                </a:solidFill>
                <a:latin typeface="Times New Roman"/>
                <a:ea typeface="Times New Roman"/>
              </a:rPr>
              <a:t>при сочетании артериальной гипертензии с ишемическими болезнями сердца (I20-I25) или цереброваскулярными болезнями (I60-I69) в качестве первоначальной причины смерти выбираются эти заболевания, а артериальная гипертензия рассматривается как фоновое заболе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Rectangle 4"/>
          <p:cNvSpPr/>
          <p:nvPr/>
        </p:nvSpPr>
        <p:spPr>
          <a:xfrm>
            <a:off x="900000" y="26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«Ишемические болезни сердца» (</a:t>
            </a:r>
            <a:r>
              <a:rPr b="1" lang="en-US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20-</a:t>
            </a:r>
            <a:r>
              <a:rPr b="1" lang="en-US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2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Rectangle 5"/>
          <p:cNvSpPr/>
          <p:nvPr/>
        </p:nvSpPr>
        <p:spPr>
          <a:xfrm>
            <a:off x="468360" y="866520"/>
            <a:ext cx="806436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БС и ОКС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ные понятия, включают в себя несколько нозологических единиц и </a:t>
            </a:r>
            <a:r>
              <a:rPr b="0" lang="ru-RU" sz="1800" spc="-1" strike="noStrike">
                <a:solidFill>
                  <a:srgbClr val="0ff15a"/>
                </a:solidFill>
                <a:latin typeface="Times New Roman"/>
                <a:ea typeface="Times New Roman"/>
              </a:rPr>
              <a:t>в качестве диагноза не используются.</a:t>
            </a:r>
            <a:r>
              <a:rPr b="1" lang="ru-RU" sz="1800" spc="-1" strike="noStrike">
                <a:solidFill>
                  <a:srgbClr val="0ff15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ри формулировании диагноза сборных понятий (с расшифровкой нескольких нозологических единиц или без их расшифровки) </a:t>
            </a:r>
            <a:r>
              <a:rPr b="0" lang="ru-RU" sz="1800" spc="-1" strike="noStrike">
                <a:solidFill>
                  <a:srgbClr val="0ff15a"/>
                </a:solidFill>
                <a:latin typeface="Times New Roman"/>
              </a:rPr>
              <a:t>недопустим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кардия (</a:t>
            </a:r>
            <a:r>
              <a:rPr b="1" lang="en-US" sz="1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)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не может быть выбрана в качестве первоначальной причины смерти. Если кроме стенокардии другое заболевание не было диагностировано, должно быть проведено патологоанатомическое вскрытие для установления причин смер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 </a:t>
            </a:r>
            <a:r>
              <a:rPr b="1" lang="en-US" sz="1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.2 «Перенесенный ИМ»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честве первоначальной причины смерти не используется, данное состояние обозначает инфаркт миокарда, перенесенный в прошлом и диагностированный по ЭКГ,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текущий период – бессимптомный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личии в первичной медицинской документации записи о перенесенном в прошлом инфаркте миокарда как единичном состоянии и отсутствии  диагнозов других заболеваний, первоначальной причиной смерти следует считать постинфарктный кардиосклероз,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  </a:t>
            </a:r>
            <a:r>
              <a:rPr b="1" lang="en-US" sz="1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Прямоугольник 4"/>
          <p:cNvSpPr/>
          <p:nvPr/>
        </p:nvSpPr>
        <p:spPr>
          <a:xfrm>
            <a:off x="539640" y="981000"/>
            <a:ext cx="814716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MS PGothic"/>
              </a:rPr>
              <a:t>Острый инфаркт миокарда (I.21)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диагноз устанавливается до 28 дней от начала заболевания в пределах эпизода оказания медицинской помощи, а при стационарном эпизоде – независимо от продолжительности госпитализации. Указание логической последовательности развития патологического процесса обязательно.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MS PGothic"/>
              </a:rPr>
              <a:t>«Повторный инфаркт миокарда»  I.22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предназначена для кодирования инфаркта миокарда любой локализации, происшедшего в течение 4-х недель (28 дней) от начала предыдущего инфарк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Все последующие ИМ после 28 дней регистрируются как повторный ИМ код I.2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efafa"/>
                </a:solidFill>
                <a:latin typeface="Times New Roman"/>
                <a:ea typeface="MS PGothic"/>
              </a:rPr>
              <a:t>Если диагноз инфаркта миокарда был установлен после 28 дней от его возникновения, то первоначальной причиной смерти следует считать «Постинфарктный кардиосклероз», </a:t>
            </a:r>
            <a:r>
              <a:rPr b="1" i="1" lang="ru-RU" sz="1800" spc="-1" strike="noStrike">
                <a:solidFill>
                  <a:srgbClr val="2efafa"/>
                </a:solidFill>
                <a:latin typeface="Times New Roman"/>
                <a:ea typeface="MS PGothic"/>
              </a:rPr>
              <a:t>код I25.8 </a:t>
            </a:r>
            <a:r>
              <a:rPr b="0" i="1" lang="ru-RU" sz="1800" spc="-1" strike="noStrike">
                <a:solidFill>
                  <a:srgbClr val="2efafa"/>
                </a:solidFill>
                <a:latin typeface="Times New Roman"/>
                <a:ea typeface="MS PGothic"/>
              </a:rPr>
              <a:t>(МКБ-10, т. 1, ч. 1, стр. 49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6918"/>
                </a:solidFill>
                <a:latin typeface="Times New Roman"/>
                <a:ea typeface="MS PGothic"/>
              </a:rPr>
              <a:t>Коды I23 и I24.0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в качестве первоначальной причины смерти не применяются, необходимо использовать коды I21- I22 (МКБ-10, т. 2, стр. 6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«Ишемические болезни сердца» (</a:t>
            </a:r>
            <a:r>
              <a:rPr b="1" lang="en-US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20-</a:t>
            </a:r>
            <a:r>
              <a:rPr b="1" lang="en-US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Times New Roman"/>
              </a:rPr>
              <a:t>25) 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Прямоугольник 2"/>
          <p:cNvSpPr/>
          <p:nvPr/>
        </p:nvSpPr>
        <p:spPr>
          <a:xfrm>
            <a:off x="324000" y="1268280"/>
            <a:ext cx="835164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Тип 1 - спонтанный инфаркт миокар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 самый частый и самый привычный для клиницистов вариант инфаркта миокарда - вследствие атеротромбоза. Всегда рассматривается как форма ИБС, может быть ее первым проявлением. Вся предыдущая часть раздела по формулировке диагноза при инфаркте миокарда посвящена именно этому тип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Тип 2 - инфаркт миокарда вследствие ишемического дисбалан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т редкий тип инфаркта миокарда - не заболевание, а синдром, его также называют </a:t>
            </a:r>
            <a:r>
              <a:rPr b="1" lang="ru-RU" sz="1600" spc="-1" strike="noStrike">
                <a:solidFill>
                  <a:srgbClr val="2efafa"/>
                </a:solidFill>
                <a:latin typeface="Times New Roman"/>
                <a:ea typeface="Calibri"/>
              </a:rPr>
              <a:t>"вторичный" инфаркт миокард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, он является осложнением других заболеваний (например, анемии, гиперкоагуляционного синдрома при онкологических заболеваниях, дыхательной недостаточности при тяжелой бронхиальной астме, метаболических нарушений при сахарном диабете и т.д.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еросклероз коронарных артерий при этом типе инфаркта миокарда может быть, может и отсутствовать, но его наличие не является основополагающим для развития инфаркта миокарда. По этой причине тип 2 инфаркта миокарда не рассматривается как самостоятельная нозологическая форма из группы ИБС, и его целесообразно регистрировать в рубрике </a:t>
            </a:r>
            <a:r>
              <a:rPr b="1" lang="ru-RU" sz="1600" spc="-1" strike="noStrike">
                <a:solidFill>
                  <a:srgbClr val="2efafa"/>
                </a:solidFill>
                <a:latin typeface="Times New Roman"/>
                <a:ea typeface="Calibri"/>
              </a:rPr>
              <a:t>"Осложнения основного заболевания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c6918"/>
                </a:solidFill>
                <a:latin typeface="Times New Roman"/>
                <a:ea typeface="Calibri"/>
              </a:rPr>
              <a:t>Четвертое универсальное определение инфаркта миокарда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odPeople</dc:creator>
  <dc:description/>
  <dc:language>en-US</dc:language>
  <cp:lastModifiedBy>кардиолог_завотд</cp:lastModifiedBy>
  <dcterms:modified xsi:type="dcterms:W3CDTF">2019-12-19T10:55:13Z</dcterms:modified>
  <cp:revision>803</cp:revision>
  <dc:subject/>
  <dc:title>Слайд 1</dc:title>
</cp:coreProperties>
</file>